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EC8-70DE-4221-8AFB-CB7C3832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180-5BC2-4C90-8BF4-1B9C93A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AD3B-B462-49D3-8896-4008D67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A8D66-D9A4-45B6-ADEF-5FEC923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AB6C-25D5-49FF-99F5-A0AF742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7923-9D20-4A09-884F-5C3A7BD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E2A41-A097-47BF-B3E1-7FD3942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3BE1F-8AFE-41C3-932A-469C228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911A6-1776-4662-BD06-D237927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E5FBF-4128-4545-95E8-C7499D09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21405-8279-4443-89EE-9EE97A7A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DA3EA-BD1A-4686-8F39-254ACAC1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49C-0084-4249-B7EA-5CCBF58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38BA0-7FD6-4E72-AB4D-E5952FD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C3976-162A-4EDF-A803-6672A91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9854-A9C6-47F0-BF81-FCA182B9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526A0-FAB5-44AB-B200-53CB6CB1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86CF4-C8B0-4855-A239-D4823BCD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9BC82-1573-41F9-A7F7-5533FFF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65503-E76C-451B-8D29-A070F11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10DE-CE5D-4CE7-984A-13B87D3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141C0-0776-42C0-96D5-CEF53CB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C3E25-0876-48A6-9A58-7A1ACC8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286-2CB0-45EB-9EDF-EDA6D85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D12FE-BD11-49BC-9A88-0CA2B1D6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CB2B9-D256-4825-BF6B-C6A7C9AD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D65EF-DC04-4B70-ADA7-594B8ED7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FBF50-EDBF-44C9-8616-CEB6C6C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FFE76-5AE0-455C-A144-2155355D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44E9-E2AF-4F58-B1C7-8630299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7D74-4E8E-492D-93FB-FA85496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4F7EF-93AF-4DEE-A80C-71F924A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8168-4089-4EED-94AA-3FEA575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790B-E8C5-431B-B756-3226278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1735-6E47-43F6-8371-2C856412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C0C64-C48E-4006-B33D-1320DB3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8882E-9241-4759-B368-237F15C7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11D35-02DB-468D-8E83-6A9E401A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81166-E9AA-4A41-AFB5-6464FF18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53CC8-1B1C-4E10-8699-BD3F336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DCDFF-B762-48D2-A3F7-68F2FDC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D6695-F063-45F1-B2E1-7C158AB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AB447-E119-4257-B5B0-8A9D41F6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26298-886E-4567-AB5E-02D386D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61120-25C7-4402-BCD0-3A7EF69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83A-A326-45F3-97BC-D685B0D7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562A6-C8EC-45FC-B646-D106BC8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06A77-BE6C-4F88-AFD8-3A87113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AFE9C-702D-4687-B43F-4588CAC6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633B0-DDE7-4CBF-819A-6705BC86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EEAF2-4938-426D-BEEA-6FD0AD9C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888-EB66-4A21-A611-E519FB7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7938-DC89-4F71-9381-76CCAD5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E66-6D07-45F6-A450-0FD8DD66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E23-3A37-41A8-82EC-9D7CE02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F3FA-C79D-40B6-9B9E-86E3703D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CA1-9641-4701-935C-3B331E0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9858-D7BD-41F1-91ED-3826E5F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0EB8-15B2-4ED3-B408-22E42D4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58B-1BD1-47E4-9461-50182FB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29A8-01E5-4CBE-AB27-2B688890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7BA-573B-4D50-ACBA-29FDE4D7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E023-FE06-4BC2-A94E-7B8B1E71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3E5A-8B61-4203-A391-3630F4F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58E4-F706-4FD9-ABF1-BA04072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F381-42BD-4B65-AD5E-A7BDCBC6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649D-AD5F-4CC2-9E12-6CFCEE00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061-FBDE-4A87-8794-17AE31C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DB84-8F6A-4986-BF45-EC189AC2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7779-43E9-4DEE-86F6-18259A9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948B-E6DF-477B-8ACF-F308E0D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3FD3-1804-46E8-A26A-2526204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E16C-BE03-4D7A-9AE4-B7E6DEC1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3D3D-E40C-4034-B7E2-A6A0F22C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3337-D475-46FB-9453-B377CF2E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5C7B0-415D-4977-8E1A-325C722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E815-DCDB-4EB0-8BE2-5054953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DA7D-171C-4C65-96DE-AC2DA73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F6F-D866-45CA-8BDF-CD8B543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02F3-7D4F-46F2-8A21-F982399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67CE-9BD8-47AD-A1B9-759C6C9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F0C6-B91C-4511-9FF3-2B519C7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19DD-35A2-44A1-9FD9-405AF61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C755-6421-4A31-9A9E-4A1964B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185D-953F-4B2D-A1FB-7CA0B2F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E4D7-312A-488C-AECB-E10258E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B955-D757-4F4F-A8DA-DFFDFD48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DB43-F9F0-4C9A-A8DD-2975CD7E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7E06-C3F4-445B-81DE-0B3CC11F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3B0-6C24-4BF2-84B2-CE07FADF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A2F9-D891-40D0-B3FE-8F455AA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869A-9DEB-4B19-A34F-B2CB1A3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DA96-F3BD-4D1A-8FBE-B7A009A5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6206-3F73-4F0B-98ED-A772E42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A0F3-51C8-42C6-BCA1-0D43CD7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A066-0635-4297-BFB8-4C41D1F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EE62-93AB-48FD-96D5-ABF312D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7CA3-8DCB-4D4A-8BE2-E96A9D2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0352-9443-4897-9981-2239FE8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9C29-40FE-427C-9FDE-3C2D045B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531-9EB5-4494-B8B3-F2BD2E7B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EDE8-4B9D-4843-BC1B-603F186B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8D52-7A94-4E9B-80ED-33888C20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85A14-AA09-4606-848D-9BF7740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25B4-C75C-4291-B876-6023CBB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EE8A-9145-41AA-B8BB-8C6AFB66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5B3C-31F2-4737-AA19-2574E08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9C03A-E209-4329-BE26-E6781808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509E-B0D9-4D3C-9EBB-926638E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AE1B-07B3-4F92-A26A-6F8FFB0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C7C4-1A09-4A87-9D0E-EBDC9F84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AEA-3444-4988-8543-6C6F62C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D4CB-94A9-4716-B0BA-1299E618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E53B-5A3B-48DF-9C30-E01DA3B2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EEED-2BB9-40F8-AB44-BB88C4A1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590F-6D8F-43EC-9E0C-070FA06D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2584-E263-457E-BB2A-60F7D50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E4CA-7FE5-4073-82D7-0658588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DCFAB-85C0-4D9E-827E-28C1ABA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B466-B37B-45B4-8592-2DED2574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363A-E61A-40B4-B4AF-0FFB989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E9D2-19F6-425E-A60E-079092F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00E-E802-45CE-91DE-C86E820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3FD9-C62A-4E4A-85E9-10C246B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02EF-73AB-40F1-81E2-33B9759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27A4-DB04-4B6A-B56F-F53BC37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4CB5-E7B9-4702-8C1C-9A1736A9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3BDF9-0321-4EB6-8CD9-29D5F52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D97E0-74CC-4165-9827-B535A39D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FB9FF-490B-4C0F-B11C-C1884D2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AFE7-4744-496E-9FAA-154175F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01FEC-2F29-49EA-BB8F-1AA36BED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19E9-5430-451D-8681-CFE5736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1DF-C3AB-4B62-8FDA-5E9E7A0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20231-E2B4-4FCD-8431-72E86BC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BEF4-AA22-4814-AF43-53EABFA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E85C-C2ED-4A9C-AE7D-BCADC81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61D4-2D84-431D-A9E7-B02E1D0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E8335-DF5E-4F7E-8361-BFCBD685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D227-FBF7-4A81-A5AB-7E7F329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86937-244F-4D89-A5D0-DA7775BA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71B66-8284-4E55-B701-E491C8C1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8217-7BC3-4BCB-9571-E96C285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21058-EF69-4068-A502-817C422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9E2-C608-4EA5-AB3E-24F90E81DDC4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721-9B1D-451F-9651-363DD865AA9C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F47-0B40-4E6F-B4E1-E176A1BBC870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68A-8D95-44D6-BE1A-5341B2B6304B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5A1-324B-4488-8A9C-1A43B514DDE2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F12-3679-4A0B-83E1-970F93644085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D019-CEEB-4F58-8A69-0F1C9A6814C8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7B9A-C610-4F31-9CDA-EE98DF0D3762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1C4-CD29-4318-B378-990AA080B416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D0C9-D59D-4E79-9530-1DD8CD44E6A9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32E-B78C-4260-B8FB-0523F167EC20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F120-BCD1-4529-9104-5C0F1B19A5BF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1"/>
          <p:cNvSpPr/>
          <p:nvPr/>
        </p:nvSpPr>
        <p:spPr>
          <a:xfrm>
            <a:off x="609480" y="6553080"/>
            <a:ext cx="5715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upplement F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re 1. Effect of TMAO on the expression of HMGB1 in E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d ELISA data showing the HMGB1 extracellular release with or without stimulation of TMAO and/or WEHD (10 µm). Ctrl: Control, Veh: Vehicle, * Significant difference from control,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gnificant difference from TMAO. N=4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5"/>
          <p:cNvGrpSpPr/>
          <p:nvPr/>
        </p:nvGrpSpPr>
        <p:grpSpPr>
          <a:xfrm>
            <a:off x="1371600" y="1677960"/>
            <a:ext cx="4191120" cy="2894040"/>
            <a:chOff x="1371600" y="1677960"/>
            <a:chExt cx="4191120" cy="2894040"/>
          </a:xfrm>
        </p:grpSpPr>
        <p:pic>
          <p:nvPicPr>
            <p:cNvPr id="494" name="Picture 3" descr=""/>
            <p:cNvPicPr/>
            <p:nvPr/>
          </p:nvPicPr>
          <p:blipFill>
            <a:blip r:embed="rId1"/>
            <a:srcRect l="0" t="0" r="18454" b="0"/>
            <a:stretch/>
          </p:blipFill>
          <p:spPr>
            <a:xfrm>
              <a:off x="1371600" y="1828440"/>
              <a:ext cx="4191120" cy="27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Box 4"/>
            <p:cNvSpPr/>
            <p:nvPr/>
          </p:nvSpPr>
          <p:spPr>
            <a:xfrm>
              <a:off x="4258800" y="1677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18"/>
            <p:cNvSpPr/>
            <p:nvPr/>
          </p:nvSpPr>
          <p:spPr>
            <a:xfrm>
              <a:off x="4648320" y="2666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1"/>
          <p:cNvSpPr/>
          <p:nvPr/>
        </p:nvSpPr>
        <p:spPr>
          <a:xfrm>
            <a:off x="685800" y="6926400"/>
            <a:ext cx="5715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upplement Figure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fects of TMAO or recombinant HMGB1 on expression of HMGB1, ZO-2 and VE-Cadherin in EOMA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: RT-PCR analysis shows the HMGB1 expression in EOMAs with or without stimulation of TMAO or HMGB1. N=4. Ctrl: Control. * Significant difference from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: Representative  confocal images (n=4) shows the  ZO-2 and VE-Cadherin expression in EOMA cells  with or without stimulation of TMAO or HMGB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990720" y="685800"/>
            <a:ext cx="4825800" cy="5600880"/>
            <a:chOff x="990720" y="685800"/>
            <a:chExt cx="4825800" cy="5600880"/>
          </a:xfrm>
        </p:grpSpPr>
        <p:pic>
          <p:nvPicPr>
            <p:cNvPr id="499" name="Chart 17" descr=""/>
            <p:cNvPicPr/>
            <p:nvPr/>
          </p:nvPicPr>
          <p:blipFill>
            <a:blip r:embed="rId1"/>
            <a:stretch/>
          </p:blipFill>
          <p:spPr>
            <a:xfrm>
              <a:off x="990720" y="685800"/>
              <a:ext cx="4825800" cy="30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19"/>
            <p:cNvSpPr/>
            <p:nvPr/>
          </p:nvSpPr>
          <p:spPr>
            <a:xfrm>
              <a:off x="2030760" y="4755600"/>
              <a:ext cx="500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ZO-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587960" y="5649120"/>
              <a:ext cx="93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E-Cadher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1" descr=""/>
            <p:cNvPicPr/>
            <p:nvPr/>
          </p:nvPicPr>
          <p:blipFill>
            <a:blip r:embed="rId2"/>
            <a:stretch/>
          </p:blipFill>
          <p:spPr>
            <a:xfrm>
              <a:off x="2454120" y="44082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3" descr=""/>
            <p:cNvPicPr/>
            <p:nvPr/>
          </p:nvPicPr>
          <p:blipFill>
            <a:blip r:embed="rId3"/>
            <a:stretch/>
          </p:blipFill>
          <p:spPr>
            <a:xfrm>
              <a:off x="3403080" y="44082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" descr=""/>
            <p:cNvPicPr/>
            <p:nvPr/>
          </p:nvPicPr>
          <p:blipFill>
            <a:blip r:embed="rId4"/>
            <a:stretch/>
          </p:blipFill>
          <p:spPr>
            <a:xfrm>
              <a:off x="4352400" y="44082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7" descr=""/>
            <p:cNvPicPr/>
            <p:nvPr/>
          </p:nvPicPr>
          <p:blipFill>
            <a:blip r:embed="rId5"/>
            <a:srcRect l="0" t="7770" r="30014" b="16672"/>
            <a:stretch/>
          </p:blipFill>
          <p:spPr>
            <a:xfrm>
              <a:off x="2462040" y="53730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8" descr=""/>
            <p:cNvPicPr/>
            <p:nvPr/>
          </p:nvPicPr>
          <p:blipFill>
            <a:blip r:embed="rId6"/>
            <a:srcRect l="7513" t="14304" r="9154" b="2362"/>
            <a:stretch/>
          </p:blipFill>
          <p:spPr>
            <a:xfrm>
              <a:off x="4352400" y="53730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9" descr=""/>
            <p:cNvPicPr/>
            <p:nvPr/>
          </p:nvPicPr>
          <p:blipFill>
            <a:blip r:embed="rId7"/>
            <a:srcRect l="12762" t="14311" r="3937" b="10674"/>
            <a:stretch/>
          </p:blipFill>
          <p:spPr>
            <a:xfrm>
              <a:off x="3396960" y="5373000"/>
              <a:ext cx="912600" cy="9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Box 27"/>
            <p:cNvSpPr/>
            <p:nvPr/>
          </p:nvSpPr>
          <p:spPr>
            <a:xfrm>
              <a:off x="1047960" y="42199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7"/>
            <p:cNvSpPr/>
            <p:nvPr/>
          </p:nvSpPr>
          <p:spPr>
            <a:xfrm>
              <a:off x="993600" y="7927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Chart 14" descr=""/>
          <p:cNvPicPr/>
          <p:nvPr/>
        </p:nvPicPr>
        <p:blipFill>
          <a:blip r:embed="rId1"/>
          <a:stretch/>
        </p:blipFill>
        <p:spPr>
          <a:xfrm>
            <a:off x="1139760" y="1901880"/>
            <a:ext cx="4834080" cy="29145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1"/>
          <p:cNvSpPr/>
          <p:nvPr/>
        </p:nvSpPr>
        <p:spPr>
          <a:xfrm>
            <a:off x="685800" y="6400800"/>
            <a:ext cx="571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upplement Figure 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fects of TMAO or recombinant HMGB1 on expression of TLR4 in EOMA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T-PCR analysis shows the HMGB1 expression in EOMAs with or without stimulation of TMAO or HMGB1. N=4. Ctrl: Control. * Significant difference from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20:26:26Z</dcterms:created>
  <dc:creator>krishna Boini</dc:creator>
  <dc:description/>
  <dc:language>en-US</dc:language>
  <cp:lastModifiedBy>Boini, Krishna M</cp:lastModifiedBy>
  <cp:lastPrinted>2018-01-26T19:51:13Z</cp:lastPrinted>
  <dcterms:modified xsi:type="dcterms:W3CDTF">2019-07-11T21:58:30Z</dcterms:modified>
  <cp:revision>331</cp:revision>
  <dc:subject/>
  <dc:title>Slide 1</dc:title>
</cp:coreProperties>
</file>