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A34D-FB06-46AC-B7C3-039D64D629FF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D02E-08FB-48F5-9FD9-7BD731ED86FD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71EC-281D-4FF8-8D1A-02D4F6ACE996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78E6-8D88-477D-95DF-01CE55638AA1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1BAF-7B22-446C-8B8C-905CE006C841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D009-20B1-4DDE-9485-CFDE5EA97CAA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1635-ED48-4333-A0C9-62662D490063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251C-61ED-4834-B5E3-497E55B2A073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E6E-DF8C-4F09-B670-C26A8438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206-C9C3-4FDC-856B-6FAC1AB5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BC9-DA67-4049-B214-0D4AFC10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8F6-7F19-4C54-A27B-0342292F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E1E-8B2B-4BB2-9205-36BB4FCA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B2B-DC29-4414-9ACA-C163AED8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620-D7E9-497A-8EE1-2C0D3EEF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635-6094-4171-92A3-4ED9ECA0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9E4-4786-4386-85CE-7839427E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23B-8E9F-448C-9DA6-BD9FBCD6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E01-BB28-4C52-9C62-618CD8A3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141-1C2C-4D52-90F7-CB52CA09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DACD-C067-4DF0-AD99-7E680C453618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"/>
          <p:cNvSpPr/>
          <p:nvPr/>
        </p:nvSpPr>
        <p:spPr>
          <a:xfrm>
            <a:off x="2016000" y="907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等线"/>
              </a:rPr>
              <a:t>Table S1. Primers used for qRT-P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440000" y="1851120"/>
          <a:ext cx="6445080" cy="4017960"/>
        </p:xfrm>
        <a:graphic>
          <a:graphicData uri="http://schemas.openxmlformats.org/drawingml/2006/table">
            <a:tbl>
              <a:tblPr/>
              <a:tblGrid>
                <a:gridCol w="1674720"/>
                <a:gridCol w="4770360"/>
              </a:tblGrid>
              <a:tr h="287280"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er 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PIN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'-TCATCTGGTCGCTCGTCTGC-3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'-CGAACGTCGCCACCTTGTTC-3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PIN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'-TGCACCCTAGCATTCTCAGCA-3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'-CCCTCCTCCCAAATTCTACTT-3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PIN1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'-CCGTCAGGTTCCTCGTGGGT-3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'-TCACGGCTGTGCTCAGAATG- 3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PI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'-CAACACCTACTCCAGCCTC-3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'-TGGACCAGTCAAGAACCTC-3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sAC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'-CAACACCCCTGCTATGTACG-3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'-CATCACCAGAGTCCAACACAA-3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08120" y="476280"/>
            <a:ext cx="772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S2.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flux rate in roots of WT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sNRT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nsgenic lines under 0.5 mM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 with NPA and without N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55640" y="2637000"/>
          <a:ext cx="6156360" cy="1368360"/>
        </p:xfrm>
        <a:graphic>
          <a:graphicData uri="http://schemas.openxmlformats.org/drawingml/2006/table">
            <a:tbl>
              <a:tblPr/>
              <a:tblGrid>
                <a:gridCol w="2198880"/>
                <a:gridCol w="988920"/>
                <a:gridCol w="990720"/>
                <a:gridCol w="988920"/>
                <a:gridCol w="988920"/>
              </a:tblGrid>
              <a:tr h="5047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pt-BR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pt-BR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fl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 h</a:t>
                      </a:r>
                      <a:r>
                        <a:rPr b="0" lang="pt-BR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r>
                        <a:rPr b="0" lang="pt-BR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ot D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N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4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6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3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N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6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3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9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9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31073"/>
          <p:cNvSpPr/>
          <p:nvPr/>
        </p:nvSpPr>
        <p:spPr>
          <a:xfrm>
            <a:off x="1566360" y="530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1. Rice seed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内容占位符 131074"/>
          <p:cNvGraphicFramePr/>
          <p:nvPr/>
        </p:nvGraphicFramePr>
        <p:xfrm>
          <a:off x="4630680" y="3619440"/>
          <a:ext cx="2894040" cy="234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内容占位符 1310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0680" y="3619440"/>
                    <a:ext cx="2894040" cy="23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内容占位符 131079"/>
          <p:cNvGraphicFramePr/>
          <p:nvPr/>
        </p:nvGraphicFramePr>
        <p:xfrm>
          <a:off x="1668600" y="1197000"/>
          <a:ext cx="2896920" cy="2338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内容占位符 13107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8600" y="1197000"/>
                    <a:ext cx="289692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内容占位符 131080"/>
          <p:cNvGraphicFramePr/>
          <p:nvPr/>
        </p:nvGraphicFramePr>
        <p:xfrm>
          <a:off x="4565520" y="1197000"/>
          <a:ext cx="2897280" cy="2340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内容占位符 13108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65520" y="1197000"/>
                    <a:ext cx="289728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内容占位符 131081"/>
          <p:cNvGraphicFramePr/>
          <p:nvPr/>
        </p:nvGraphicFramePr>
        <p:xfrm>
          <a:off x="1646280" y="3619440"/>
          <a:ext cx="2897280" cy="2341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内容占位符 13108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6280" y="3619440"/>
                    <a:ext cx="2897280" cy="23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Box 9"/>
          <p:cNvSpPr/>
          <p:nvPr/>
        </p:nvSpPr>
        <p:spPr>
          <a:xfrm>
            <a:off x="1693800" y="1197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4572000" y="1204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1692360" y="3394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461016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94209"/>
          <p:cNvSpPr/>
          <p:nvPr/>
        </p:nvSpPr>
        <p:spPr>
          <a:xfrm>
            <a:off x="250920" y="195120"/>
            <a:ext cx="8353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 growth of WT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sNRT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nsgenic lines under 0.5 m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0.5mM 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94211"/>
          <p:cNvGrpSpPr/>
          <p:nvPr/>
        </p:nvGrpSpPr>
        <p:grpSpPr>
          <a:xfrm>
            <a:off x="1044720" y="1268280"/>
            <a:ext cx="1552320" cy="2303280"/>
            <a:chOff x="1044720" y="1268280"/>
            <a:chExt cx="1552320" cy="2303280"/>
          </a:xfrm>
        </p:grpSpPr>
        <p:pic>
          <p:nvPicPr>
            <p:cNvPr id="67" name="图片 94212" descr=""/>
            <p:cNvPicPr/>
            <p:nvPr/>
          </p:nvPicPr>
          <p:blipFill>
            <a:blip r:embed="rId1"/>
            <a:stretch/>
          </p:blipFill>
          <p:spPr>
            <a:xfrm>
              <a:off x="1044720" y="1268280"/>
              <a:ext cx="15523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直接连接符 94213"/>
            <p:cNvSpPr/>
            <p:nvPr/>
          </p:nvSpPr>
          <p:spPr>
            <a:xfrm>
              <a:off x="1187280" y="3068280"/>
              <a:ext cx="0" cy="19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94214"/>
          <p:cNvGrpSpPr/>
          <p:nvPr/>
        </p:nvGrpSpPr>
        <p:grpSpPr>
          <a:xfrm>
            <a:off x="1044720" y="3860640"/>
            <a:ext cx="1550880" cy="2303280"/>
            <a:chOff x="1044720" y="3860640"/>
            <a:chExt cx="1550880" cy="2303280"/>
          </a:xfrm>
        </p:grpSpPr>
        <p:pic>
          <p:nvPicPr>
            <p:cNvPr id="70" name="图片 94215" descr=""/>
            <p:cNvPicPr/>
            <p:nvPr/>
          </p:nvPicPr>
          <p:blipFill>
            <a:blip r:embed="rId2"/>
            <a:stretch/>
          </p:blipFill>
          <p:spPr>
            <a:xfrm>
              <a:off x="1044720" y="3860640"/>
              <a:ext cx="155088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直接连接符 94216"/>
            <p:cNvSpPr/>
            <p:nvPr/>
          </p:nvSpPr>
          <p:spPr>
            <a:xfrm>
              <a:off x="1116360" y="5678280"/>
              <a:ext cx="0" cy="19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94221"/>
          <p:cNvSpPr/>
          <p:nvPr/>
        </p:nvSpPr>
        <p:spPr>
          <a:xfrm>
            <a:off x="1044720" y="35002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T OE1 OE2 O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94222"/>
          <p:cNvSpPr/>
          <p:nvPr/>
        </p:nvSpPr>
        <p:spPr>
          <a:xfrm>
            <a:off x="1044720" y="61484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T OE1 OE2 O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94225"/>
          <p:cNvSpPr/>
          <p:nvPr/>
        </p:nvSpPr>
        <p:spPr>
          <a:xfrm>
            <a:off x="974160" y="133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94228"/>
          <p:cNvSpPr/>
          <p:nvPr/>
        </p:nvSpPr>
        <p:spPr>
          <a:xfrm>
            <a:off x="974160" y="3925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1" descr=""/>
          <p:cNvPicPr/>
          <p:nvPr/>
        </p:nvPicPr>
        <p:blipFill>
          <a:blip r:embed="rId3"/>
          <a:stretch/>
        </p:blipFill>
        <p:spPr>
          <a:xfrm>
            <a:off x="2689200" y="1268280"/>
            <a:ext cx="2674800" cy="25210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" descr=""/>
          <p:cNvPicPr/>
          <p:nvPr/>
        </p:nvPicPr>
        <p:blipFill>
          <a:blip r:embed="rId4"/>
          <a:stretch/>
        </p:blipFill>
        <p:spPr>
          <a:xfrm>
            <a:off x="5497560" y="1268280"/>
            <a:ext cx="2674800" cy="25210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" descr=""/>
          <p:cNvPicPr/>
          <p:nvPr/>
        </p:nvPicPr>
        <p:blipFill>
          <a:blip r:embed="rId5"/>
          <a:stretch/>
        </p:blipFill>
        <p:spPr>
          <a:xfrm>
            <a:off x="2689200" y="3860640"/>
            <a:ext cx="2674800" cy="25210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" descr=""/>
          <p:cNvPicPr/>
          <p:nvPr/>
        </p:nvPicPr>
        <p:blipFill>
          <a:blip r:embed="rId6"/>
          <a:stretch/>
        </p:blipFill>
        <p:spPr>
          <a:xfrm>
            <a:off x="5497560" y="3860640"/>
            <a:ext cx="2674800" cy="252108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94226"/>
          <p:cNvSpPr/>
          <p:nvPr/>
        </p:nvSpPr>
        <p:spPr>
          <a:xfrm>
            <a:off x="2639520" y="3925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94227"/>
          <p:cNvSpPr/>
          <p:nvPr/>
        </p:nvSpPr>
        <p:spPr>
          <a:xfrm>
            <a:off x="5447160" y="3925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94223"/>
          <p:cNvSpPr/>
          <p:nvPr/>
        </p:nvSpPr>
        <p:spPr>
          <a:xfrm>
            <a:off x="2639520" y="133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94224"/>
          <p:cNvSpPr/>
          <p:nvPr/>
        </p:nvSpPr>
        <p:spPr>
          <a:xfrm>
            <a:off x="5447880" y="133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6590520" y="4941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6914520" y="47512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238520" y="4437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7555680" y="40672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79680" y="3933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7"/>
          <p:cNvSpPr/>
          <p:nvPr/>
        </p:nvSpPr>
        <p:spPr>
          <a:xfrm>
            <a:off x="5071320" y="4221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8"/>
          <p:cNvSpPr/>
          <p:nvPr/>
        </p:nvSpPr>
        <p:spPr>
          <a:xfrm>
            <a:off x="4753800" y="442764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4300200" y="64231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2% 19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0"/>
          <p:cNvSpPr/>
          <p:nvPr/>
        </p:nvSpPr>
        <p:spPr>
          <a:xfrm>
            <a:off x="6233760" y="6335640"/>
            <a:ext cx="36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.0% 29.8% 26.7% 27.5% 28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018040" cy="3097080"/>
          </a:xfrm>
          <a:prstGeom prst="rect">
            <a:avLst/>
          </a:prstGeom>
          <a:ln w="0">
            <a:noFill/>
          </a:ln>
        </p:spPr>
      </p:pic>
      <p:sp>
        <p:nvSpPr>
          <p:cNvPr id="94" name="矩形 134145"/>
          <p:cNvSpPr/>
          <p:nvPr/>
        </p:nvSpPr>
        <p:spPr>
          <a:xfrm>
            <a:off x="549360" y="692280"/>
            <a:ext cx="8055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mily genes expression in the root of WT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sNRT2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genic lines with NPA treatment under 0.5mM 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826920" y="476280"/>
            <a:ext cx="79441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4.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lux rate in roots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sNRT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genic lines und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 mM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8" descr=""/>
          <p:cNvPicPr/>
          <p:nvPr/>
        </p:nvPicPr>
        <p:blipFill>
          <a:blip r:embed="rId1"/>
          <a:stretch/>
        </p:blipFill>
        <p:spPr>
          <a:xfrm>
            <a:off x="2637000" y="1773360"/>
            <a:ext cx="3870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5"/>
          <p:cNvGrpSpPr/>
          <p:nvPr/>
        </p:nvGrpSpPr>
        <p:grpSpPr>
          <a:xfrm>
            <a:off x="684360" y="1989000"/>
            <a:ext cx="3821040" cy="3189960"/>
            <a:chOff x="684360" y="1989000"/>
            <a:chExt cx="3821040" cy="3189960"/>
          </a:xfrm>
        </p:grpSpPr>
        <p:sp>
          <p:nvSpPr>
            <p:cNvPr id="98" name="文本框 6"/>
            <p:cNvSpPr/>
            <p:nvPr/>
          </p:nvSpPr>
          <p:spPr>
            <a:xfrm>
              <a:off x="2778840" y="4911840"/>
              <a:ext cx="17265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5mM</a:t>
              </a: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0.5mM NO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7"/>
            <p:cNvGrpSpPr/>
            <p:nvPr/>
          </p:nvGrpSpPr>
          <p:grpSpPr>
            <a:xfrm>
              <a:off x="684360" y="1989000"/>
              <a:ext cx="3313800" cy="3189960"/>
              <a:chOff x="684360" y="1989000"/>
              <a:chExt cx="3313800" cy="3189960"/>
            </a:xfrm>
          </p:grpSpPr>
          <p:sp>
            <p:nvSpPr>
              <p:cNvPr id="100" name="文本框 6"/>
              <p:cNvSpPr/>
              <p:nvPr/>
            </p:nvSpPr>
            <p:spPr>
              <a:xfrm>
                <a:off x="973440" y="4911840"/>
                <a:ext cx="17269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5mM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  0.5mM NO</a:t>
                </a:r>
                <a:r>
                  <a:rPr b="1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9"/>
              <p:cNvGrpSpPr/>
              <p:nvPr/>
            </p:nvGrpSpPr>
            <p:grpSpPr>
              <a:xfrm>
                <a:off x="684360" y="1989000"/>
                <a:ext cx="3313800" cy="2024640"/>
                <a:chOff x="684360" y="1989000"/>
                <a:chExt cx="3313800" cy="2024640"/>
              </a:xfrm>
            </p:grpSpPr>
            <p:pic>
              <p:nvPicPr>
                <p:cNvPr id="102" name="Picture 11" descr="C:\Users\Pakistan\Desktop\Picture1 wt 6, nob.jp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4360" y="2061000"/>
                  <a:ext cx="700200" cy="1952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17" descr="C:\Users\Pakistan\Desktop\r2 nh4 7 5 1.ti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22600" y="1989000"/>
                  <a:ext cx="689040" cy="1656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" name="Straight Connector 67"/>
                <p:cNvSpPr/>
                <p:nvPr/>
              </p:nvSpPr>
              <p:spPr>
                <a:xfrm flipH="1">
                  <a:off x="3996720" y="2952720"/>
                  <a:ext cx="1440" cy="222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Straight Connector 67"/>
                <p:cNvSpPr/>
                <p:nvPr/>
              </p:nvSpPr>
              <p:spPr>
                <a:xfrm flipH="1">
                  <a:off x="2986920" y="2952720"/>
                  <a:ext cx="1440" cy="222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Straight Connector 67"/>
                <p:cNvSpPr/>
                <p:nvPr/>
              </p:nvSpPr>
              <p:spPr>
                <a:xfrm>
                  <a:off x="1462320" y="2952720"/>
                  <a:ext cx="0" cy="260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Straight Connector 67"/>
                <p:cNvSpPr/>
                <p:nvPr/>
              </p:nvSpPr>
              <p:spPr>
                <a:xfrm flipH="1">
                  <a:off x="2070360" y="2952720"/>
                  <a:ext cx="1440" cy="222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8" name="Group 18"/>
          <p:cNvGrpSpPr/>
          <p:nvPr/>
        </p:nvGrpSpPr>
        <p:grpSpPr>
          <a:xfrm>
            <a:off x="4716360" y="2122560"/>
            <a:ext cx="3384720" cy="1903680"/>
            <a:chOff x="4716360" y="2122560"/>
            <a:chExt cx="3384720" cy="1903680"/>
          </a:xfrm>
        </p:grpSpPr>
        <p:grpSp>
          <p:nvGrpSpPr>
            <p:cNvPr id="109" name="Group 19"/>
            <p:cNvGrpSpPr/>
            <p:nvPr/>
          </p:nvGrpSpPr>
          <p:grpSpPr>
            <a:xfrm>
              <a:off x="4716360" y="2122560"/>
              <a:ext cx="2889360" cy="1585080"/>
              <a:chOff x="4716360" y="2122560"/>
              <a:chExt cx="2889360" cy="1585080"/>
            </a:xfrm>
          </p:grpSpPr>
          <p:pic>
            <p:nvPicPr>
              <p:cNvPr id="110" name="Picture 2" descr=""/>
              <p:cNvPicPr/>
              <p:nvPr/>
            </p:nvPicPr>
            <p:blipFill>
              <a:blip r:embed="rId3"/>
              <a:stretch/>
            </p:blipFill>
            <p:spPr>
              <a:xfrm>
                <a:off x="5509080" y="2158200"/>
                <a:ext cx="385200" cy="153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7325280" y="2122560"/>
                <a:ext cx="280440" cy="154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6516360" y="2158200"/>
                <a:ext cx="380880" cy="151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4716360" y="2178720"/>
                <a:ext cx="565560" cy="152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" name="文本框 10"/>
            <p:cNvSpPr/>
            <p:nvPr/>
          </p:nvSpPr>
          <p:spPr>
            <a:xfrm>
              <a:off x="6372360" y="3759120"/>
              <a:ext cx="17287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5mM</a:t>
              </a: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0.5mM NO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6"/>
          <p:cNvSpPr/>
          <p:nvPr/>
        </p:nvSpPr>
        <p:spPr>
          <a:xfrm>
            <a:off x="4572000" y="3759120"/>
            <a:ext cx="1727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5mM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0.5mM NO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2"/>
          <p:cNvSpPr/>
          <p:nvPr/>
        </p:nvSpPr>
        <p:spPr>
          <a:xfrm>
            <a:off x="1322280" y="1779480"/>
            <a:ext cx="7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N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42"/>
          <p:cNvSpPr/>
          <p:nvPr/>
        </p:nvSpPr>
        <p:spPr>
          <a:xfrm>
            <a:off x="5002200" y="1844640"/>
            <a:ext cx="7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N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1"/>
          <p:cNvSpPr/>
          <p:nvPr/>
        </p:nvSpPr>
        <p:spPr>
          <a:xfrm>
            <a:off x="2913120" y="1784520"/>
            <a:ext cx="79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N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41"/>
          <p:cNvSpPr/>
          <p:nvPr/>
        </p:nvSpPr>
        <p:spPr>
          <a:xfrm>
            <a:off x="6800760" y="1857240"/>
            <a:ext cx="7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N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8"/>
          <p:cNvSpPr/>
          <p:nvPr/>
        </p:nvSpPr>
        <p:spPr>
          <a:xfrm>
            <a:off x="544680" y="549360"/>
            <a:ext cx="7621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S5. Effects of NPA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E3/DR5::G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sNRT2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genic lines rice root growth under 0.5 m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0.5 mM 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797040" y="1585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4572000" y="16160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" descr="C:\Users\Pakistan\Desktop\Picture1 wt nh4 5 7 1.tif"/>
          <p:cNvPicPr/>
          <p:nvPr/>
        </p:nvPicPr>
        <p:blipFill>
          <a:blip r:embed="rId7"/>
          <a:stretch/>
        </p:blipFill>
        <p:spPr>
          <a:xfrm>
            <a:off x="1538280" y="2011320"/>
            <a:ext cx="1090800" cy="2786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C:\Users\Pakistan\Desktop\r2 ph 6.5 n03 7 days 1"/>
          <p:cNvPicPr/>
          <p:nvPr/>
        </p:nvPicPr>
        <p:blipFill>
          <a:blip r:embed="rId8"/>
          <a:stretch/>
        </p:blipFill>
        <p:spPr>
          <a:xfrm>
            <a:off x="3287880" y="1990800"/>
            <a:ext cx="707760" cy="1654200"/>
          </a:xfrm>
          <a:prstGeom prst="rect">
            <a:avLst/>
          </a:prstGeom>
          <a:ln w="0">
            <a:noFill/>
          </a:ln>
        </p:spPr>
      </p:pic>
      <p:sp>
        <p:nvSpPr>
          <p:cNvPr id="125" name="Straight Connector 67"/>
          <p:cNvSpPr/>
          <p:nvPr/>
        </p:nvSpPr>
        <p:spPr>
          <a:xfrm flipH="1">
            <a:off x="2410920" y="2916360"/>
            <a:ext cx="1800" cy="29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01:53:03Z</dcterms:created>
  <dc:creator>Administrator</dc:creator>
  <dc:description/>
  <dc:language>en-US</dc:language>
  <cp:lastModifiedBy>罗 冰冰</cp:lastModifiedBy>
  <dcterms:modified xsi:type="dcterms:W3CDTF">2019-04-02T07:18:19Z</dcterms:modified>
  <cp:revision>19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8</vt:lpwstr>
  </property>
</Properties>
</file>