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863-F8F7-4837-AFF6-C280A050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68F2-B937-4BBF-A14C-0270D177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4B5-894D-40E0-8415-5625EC1E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D16-1E39-4725-9C6A-90EED164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676B-5D2B-44AC-A889-DA75AB27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F6E5-4BE1-4161-A6ED-045BE2BB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B9DA-1D8E-4E1E-88E6-A86EE696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EBFE-5635-40C7-9139-368153E5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FF7A-64E1-41D2-8E7E-6D281D04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4E98-7727-4D34-A4CC-5827F361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8268-1283-423A-B500-D18D7B23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B5D-09EC-4630-BC2B-9CF98CE9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AF1E-BDCA-4C16-B566-B9F9D210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F4E2-A069-442A-8D3D-13E12F7D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51AB-A16B-4554-9DDB-DDF5470A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A31A-6765-465C-B819-7EA9DC560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3CD9-38B9-4729-B778-261EE92A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A363-2557-46B5-BF2F-1AC09D26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D40-6260-44BB-9D2B-23B80AAC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EE5-8462-468B-8EB2-9D82E0BE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5EBD-D61F-447A-812B-101FCA62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ACE-A69E-4D68-B1F8-7DF00B0D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797F-10C1-44AA-AA3D-88162F38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B6D-2BAC-45FF-819A-4CFE8CBD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819AC9-85AC-4025-A6E4-E2346B9B4EA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6BFD74-443E-48A6-A1FF-66C5C4DB0F3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232720" y="132840"/>
            <a:ext cx="6017400" cy="408096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10966320" y="6494400"/>
            <a:ext cx="66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g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2116440" y="4214160"/>
            <a:ext cx="7559280" cy="20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2910600" y="219240"/>
            <a:ext cx="3542400" cy="310752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11218320" y="6463800"/>
            <a:ext cx="66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g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082520" y="3509280"/>
            <a:ext cx="8859960" cy="30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Fig. S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Binding of anti-F1 capsule mAb on F1 linear peptides does not show secondary positive bands like with V-antigen peptides.  To discern why V-antigen peptides 19, 20, 27, and 28 appeared to be recognized by anti-V mAbs, binding of mAb against F1 capsule was examined on V-antigen peptides as a control.  The mAbs were 10 µg/ml in PBS and 0.05 ml per well was used to probe the linear peptides and V- or F1- antigens. The binding assays were done twice in triplicate.  A.  The binding of mAb F1 (F1-04-A-G1) on F1 linear peptides is shown with the last lane as the positive control with full length F1 protein.  Note binding or peptides 1 and 2.  B.  The binding of mAb 84.1 on F1 linear peptides is shown as a control.  The last lane was the positive control with full length V-antigen.  Note that no positive peptides were seen with the mAb 84.1 unlike what was seen with the V-antigen peptides with this mAb (see Fig. S1).   C. The binding of mAb F1 on V- antigen peptides with the lane 54 showing the results with F1 protein and the last lane with full length V-antigen.  Note the appearance of the positive peptides 19, 20, 27, and 28.  From our results it was concluded that when both the V-antigen peptides and the secondary or detection antibody (conjugated with HRP) were used we saw nonspecific binding. We also looked at binding of the V-antigen peptides without the primary mAb and saw some positive binding of similar peptides but not as many or as high (data not shown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2544840" y="179640"/>
            <a:ext cx="5549400" cy="3929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0962360" y="6085440"/>
            <a:ext cx="96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g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71600" y="4515840"/>
            <a:ext cx="6095520" cy="17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Fig. S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The kinetic binding of V-antigen by anti-V mAbs was analyzed by using an antibody capture method with a Biacore 3000 SPR instrument.  After capture of the anti-V mAb, different amounts of V-antigen (1 nM to 1.5 uM) were passed over the immobilized mAb.  The results are shown with the following mAbs: A. 84.1a; B. 84.1b; C. 141.1a; D. 141.1b; E. 7.3; F. 10.1.  The designation “a” means unbiotinylated, and “b” means biotinylated mAb. The kinetic analysis for each mAb was done onc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rcRect l="0" t="0" r="32173" b="0"/>
          <a:stretch/>
        </p:blipFill>
        <p:spPr>
          <a:xfrm>
            <a:off x="3289320" y="616320"/>
            <a:ext cx="3585240" cy="2663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0913760" y="6432480"/>
            <a:ext cx="66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g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438280" y="3629520"/>
            <a:ext cx="609552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Fig. S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The deficiency of binding of V-antigen by mAbs 74.1 was analyzed with a Biacore 3000 SPR instrument. Compare the kinetic binding of V-antigen by mAb 74.1 with the binding of the other mAbs in Fig. S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  <Words>458</Words>
  <Paragraphs>7</Paragraphs>
  <Company>DH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1T18:26:21Z</dcterms:created>
  <dc:creator>Amemiya, Kei Dr. VOL USARMY MEDCOM USAMRIID (US)</dc:creator>
  <dc:description/>
  <dc:language>en-US</dc:language>
  <cp:lastModifiedBy>Amemiya, Kei Dr. VOL USARMY MEDCOM USAMRIID (US)</cp:lastModifiedBy>
  <dcterms:modified xsi:type="dcterms:W3CDTF">2020-07-21T18:59:4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4</vt:r8>
  </property>
</Properties>
</file>