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F99-B577-41FB-807A-28B9B717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6CF-43E0-4225-BEED-D4A3C39C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3B7-316D-4FBF-8710-AA79AA1C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C0E-A787-43B4-B65F-EDF2190F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B43-0451-4A04-8F18-948232EC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DF3-04C3-4430-8A2C-BEA78DE9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B9B-49B7-4B45-8BB0-2D4099F8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2227-472F-42BE-9DE1-40B88763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940-4544-4179-BBD3-770A2A2F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AA8-5914-4D2C-BA1F-1A918D6E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D67E-E52C-4182-B040-D26B2267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21E-E3A9-45A4-9647-15C0C105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39FB-151F-4D3B-A72A-9C6CC64DC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"/>
          <p:cNvGrpSpPr/>
          <p:nvPr/>
        </p:nvGrpSpPr>
        <p:grpSpPr>
          <a:xfrm>
            <a:off x="1590840" y="-60480"/>
            <a:ext cx="10399680" cy="6541560"/>
            <a:chOff x="1590840" y="-60480"/>
            <a:chExt cx="10399680" cy="6541560"/>
          </a:xfrm>
        </p:grpSpPr>
        <p:grpSp>
          <p:nvGrpSpPr>
            <p:cNvPr id="42" name="Group 4"/>
            <p:cNvGrpSpPr/>
            <p:nvPr/>
          </p:nvGrpSpPr>
          <p:grpSpPr>
            <a:xfrm>
              <a:off x="1590840" y="-60480"/>
              <a:ext cx="10399680" cy="3632760"/>
              <a:chOff x="1590840" y="-60480"/>
              <a:chExt cx="10399680" cy="3632760"/>
            </a:xfrm>
          </p:grpSpPr>
          <p:sp>
            <p:nvSpPr>
              <p:cNvPr id="43" name="TextBox 4"/>
              <p:cNvSpPr/>
              <p:nvPr/>
            </p:nvSpPr>
            <p:spPr>
              <a:xfrm>
                <a:off x="1590840" y="-60480"/>
                <a:ext cx="51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Palatino Linotype"/>
                  </a:rPr>
                  <a:t>(a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4" name="Group 1"/>
              <p:cNvGrpSpPr/>
              <p:nvPr/>
            </p:nvGrpSpPr>
            <p:grpSpPr>
              <a:xfrm>
                <a:off x="2169720" y="31320"/>
                <a:ext cx="9820800" cy="3540960"/>
                <a:chOff x="2169720" y="31320"/>
                <a:chExt cx="9820800" cy="3540960"/>
              </a:xfrm>
            </p:grpSpPr>
            <p:sp>
              <p:nvSpPr>
                <p:cNvPr id="45" name="TextBox 3"/>
                <p:cNvSpPr/>
                <p:nvPr/>
              </p:nvSpPr>
              <p:spPr>
                <a:xfrm>
                  <a:off x="2169720" y="31320"/>
                  <a:ext cx="4119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alibri"/>
                    </a:rPr>
                    <a:t>Native </a:t>
                  </a: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Calibri"/>
                    </a:rPr>
                    <a:t>Rhipicephalus microplus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alibri"/>
                    </a:rPr>
                    <a:t>Bm86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TextBox 7"/>
                <p:cNvSpPr/>
                <p:nvPr/>
              </p:nvSpPr>
              <p:spPr>
                <a:xfrm>
                  <a:off x="2169720" y="192960"/>
                  <a:ext cx="9820800" cy="337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Palatino Linotype"/>
                    </a:rPr>
                    <a:t>ccgcgacagctgcggtggttcgacgcagtgagatgcgtggcatcgctttgttcgtcgccgctgtttcactgattgtagagggcacagcagaatcatccatttgctctgacttcgggaacgagttctgtcgcaacgctgaatgtgaagtggtgcctggtgcagaggatgatttcgtgtgcaaatgtccgcgagataatatgtacttcaatgctgctgaaaagcaatgcgaatataaagacacgtgcaagacaagggagtgcagctatggacgttgcgttgaaagtaacccgagcaaggctagctgcgtctgcgaagcatcggacgatctaacgctacaatgcaaaattaaaaatgactacgcaactgactgccgaaatcgaggtggcactgctaagttgcgcacggatgggtttattggcgcaacgtgtgactgtggtgaatggggtgcgatgaacatgaccacccggaactgtgtccctaccacgtgtcttcgtcccgacttgacctgcaaagacctctgcgagaaaaacctgcttcaaagggattctcgttgttgccaggggtggaacacagcaaactgttcagccgctcctccagctgactcctattgctctcctgggagccccaaaggaccggacggacagtgtataaatgcttgcaagacgaaagaagctgggtttgtctgcaagcatggatgcaggtcgaccggcaaggcgtacgagtgcacgtgcccgagtggctctaccgtcgccgaagatggcattacctgcaaaagtatttcgcacacagtcagctgcactgctgagcaaaaacagacctgccgccaaccgaagactgtcgtgtgcacaaaggaactgtgttgtgtgagtgcccgtggaatcaacatctagtgggggacacgtgcataagtgattgcgtcgacaagaaatgccacgaagaatttatggactgtggcgtatatatgaatcgacaaagctgctattgtccatggaaatcaaggaagccgggcccaaatgtcaacatcaatgaatgcctactgaatgagtattactacacggtgtcattcaccccaaacatatcttttgattctgaccattgcaaatggtatgaggatcgtgttttggaagcgatacggaccagtatcggaaaagaagtttttaaggttgagatacttaactgcacgcaggacattaaggcaagactcatagcagagaaaccactgtcaaaacacgtgctcaggaaactacaagcatgcgagcatccaatcggcgaatggtgcatgatgtatccgaagttgctgatcaagaaaaactctgcaacagaaatcgaagaagagaacctttgcgacagtctgctcaaggatcaggaagctgcctacaaaggtcaaaacaaatgcgtcaaggtcgacaacctcttctggttccagtgcgctgatggttacacaacaacttacgagatgacacgaggtcgcctacgccgctccgtgtgtaaagctggagtttcttgcaacgaaaacgagcagtcggagtgtgctgacaaagggcaaatatttgtttacgaaaacggcaaagcgaattgccaatgcccaccagacactaaacctggggagattggctgcattgagcgtaccacatgcaaccctaaagaaatacaagaatgccaagacaagaagctggagtgcgtttacaaaaaccataaagcagaatgcgagtgtcctgatgatcacgagtgttacagggagcctgccaaagactcttgcagtgaagaggataatggtaaatgtcaaagcagtgggcagcgttgtgtaatagaaaacggaaaggctgtttgcaaggaaaagtctgaagcaacaacagctgcgactacaacaacgaaagcgaaagacaaggatccagatcctggaaagtcaagtgctgcagcagtatcagctactgggctcttgttactgctcgcagctacttcagtcaccgcagcatcgttgtaaggaagatgtccaacttgaatacggaacagcttgaatatgtatatatacatcacgcttacatcgaacacctagcttggtttttggaatttcaatattgcgcattggtactcacggcaacatgaatgtattactttaaaatgacagggaagagggacgtgaaaggagtttccttgtctgaacatatcaaagaaaattttcccctatccgaccgatgtcaaataaagatagttgggtctaaac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7" name="Group 3"/>
            <p:cNvGrpSpPr/>
            <p:nvPr/>
          </p:nvGrpSpPr>
          <p:grpSpPr>
            <a:xfrm>
              <a:off x="1590840" y="3172680"/>
              <a:ext cx="10399680" cy="3308400"/>
              <a:chOff x="1590840" y="3172680"/>
              <a:chExt cx="10399680" cy="3308400"/>
            </a:xfrm>
          </p:grpSpPr>
          <p:sp>
            <p:nvSpPr>
              <p:cNvPr id="48" name="TextBox 5"/>
              <p:cNvSpPr/>
              <p:nvPr/>
            </p:nvSpPr>
            <p:spPr>
              <a:xfrm>
                <a:off x="1590840" y="3172680"/>
                <a:ext cx="51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Palatino Linotype"/>
                  </a:rPr>
                  <a:t>(b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9" name="Group 2"/>
              <p:cNvGrpSpPr/>
              <p:nvPr/>
            </p:nvGrpSpPr>
            <p:grpSpPr>
              <a:xfrm>
                <a:off x="2169720" y="3294000"/>
                <a:ext cx="9820800" cy="3187080"/>
                <a:chOff x="2169720" y="3294000"/>
                <a:chExt cx="9820800" cy="3187080"/>
              </a:xfrm>
            </p:grpSpPr>
            <p:sp>
              <p:nvSpPr>
                <p:cNvPr id="50" name="TextBox 6"/>
                <p:cNvSpPr/>
                <p:nvPr/>
              </p:nvSpPr>
              <p:spPr>
                <a:xfrm>
                  <a:off x="2169720" y="3294000"/>
                  <a:ext cx="4119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alibri"/>
                    </a:rPr>
                    <a:t>Bm86Ch 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" name="TextBox 8"/>
                <p:cNvSpPr/>
                <p:nvPr/>
              </p:nvSpPr>
              <p:spPr>
                <a:xfrm>
                  <a:off x="2169720" y="3466800"/>
                  <a:ext cx="9820800" cy="301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70c0"/>
                      </a:solidFill>
                      <a:latin typeface="Palatino Linotype"/>
                    </a:rPr>
                    <a:t>Atggctacgtttgctcttttcatttcagccttgtgctgtgttttggcaattacatcggcgggtgaagaattgacacaatccgatgttaga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Palatino Linotype"/>
                    </a:rPr>
                    <a:t>tcatccatttgctctgacttcgggaacgagttctgtcgcaacgctgaatgtgaagtggtgcctggtgcagaggatgatttcgtgtgcaaatgtccgcgagataatatgtacttcaatgctgctgaaaagcaatgcgaatataaagacacgtgcaagacaagggagtgcagctatggacgttgcgttgaaagtaacccgagcaaggctagctgcgtctgcgaagcatcggacgatctaacgctacaatgcaaaattaaaaatgactacgcaactgactgccgaaatcgaggtggcactgctaagttgcgcacggatgggtttattggcgcaacgtgtgactgtggtgaatggggtgcgatgaacatgaccacccggaactgtgtccctaccacgtgtcttcgtcccgacttgacctgcaaagacctctgcgagaaaaacctgcttcaaagggattctcgttgttgccaggggtggaacacagcaaactgttcagccgctcctccagctgactcctattgctctcctgggagccccaaaggaccggacggacagtgtataaatgcttgcaagacgaaagaagctgggtttgtctgcaagcatggatgcaggtcgaccggcaaggcgtacgagtgcacgtgcccgagtggctctaccgtcgccgaagatggcattacctgcaaaagtatttcgcacacagtcagctgcactgctgagcaaaaacagacctgccgcccaaccgaagactgtcgtgtgcacaaaggaactgtgttgtgtgagtgcccgtggaatcaacatctagtgggggacacgtgcataagtgattgcgtcgacaagaaatgccacgaagaatttatggactgtggcgtatatatgaatcgacaaagctgctattgtccatggaaatcaaggaagccgggcccaaatgtcaacatcaatgaatgcctactgaatgagtattactacacggtgtcattcaccccaaacatatcttttgattctgaccattgcaaatggtatgaggatcgtgttttggaagcgatacggaccagtatcggaaaagaagtttttaaggttgagatacttaactgcacgcaggacattaaggcaagactcatagcagagaaaccactgtcaaaacacgtgctcaggaaactacaagcatgcgagcatccaatcggcgaatggtgcatgatgtatccgaagttgctgatcaagaaaaactctgcaacagaaatcgaagaagagaacctttgcgacagtctgctcaaggatcaggaagctgcctacaaaggtcaaaacaaatgcgtcaaggtcgacaacctcttctggttccagtgcgctgatggttacacaacaacttacgagatgacacgaggtcgcctacgccgctccgtgtgtaaagctggagtttcttgcaacgaaaacgagcagtcggagtgtgctgacaaagggcaaatatttgtttacgaaaacggcaaagcgaattgccaatgcccaccagacactaaacctggggagattggctgcattgagcgtaccacatgcaaccctaaagaaatacaagaatgccaagacaagaagctggagtgcgtttacaaaaaccataaagcagaatgcgagtgtcctgatgatcacgagtgttacagggagcctgccaaagactcttgcagtgaagaggataatggtaaatgtcaaagcagtgggcagcgttgtgtaatagaaaacggaaaggctgtttgcaaggaaaagtctgaagcaacaacagctgcgactacaacaacgaaagcgaaagacaagcatccagatcctggaaagtcaagtgctccagca</a:t>
                  </a:r>
                  <a:r>
                    <a:rPr b="0" lang="en-US" sz="1200" spc="-1" strike="noStrike">
                      <a:solidFill>
                        <a:srgbClr val="ff0000"/>
                      </a:solidFill>
                      <a:latin typeface="Palatino Linotype"/>
                    </a:rPr>
                    <a:t>catcatcatcatcatcat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Palatino Linotype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52" name="TextBox 6"/>
          <p:cNvSpPr/>
          <p:nvPr/>
        </p:nvSpPr>
        <p:spPr>
          <a:xfrm>
            <a:off x="1230480" y="6364440"/>
            <a:ext cx="1076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 Linotype"/>
              </a:rPr>
              <a:t>Figure S1.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(a) Native nucleotide sequence of the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Rhipicephalus microplus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Bm86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(GenBank accession number M29321). (b) Chimeric Bm86 (Bm86Ch) containing the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B. bovis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MSA-1 signal peptide at its N-terminal (blue font) and the 6 His tag at its C-terminal (blue font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9T22:35:24Z</dcterms:created>
  <dc:creator>Bastos, Reginaldo</dc:creator>
  <dc:description/>
  <dc:language>en-US</dc:language>
  <cp:lastModifiedBy>Suarez, Carlos</cp:lastModifiedBy>
  <dcterms:modified xsi:type="dcterms:W3CDTF">2020-12-09T07:16:27Z</dcterms:modified>
  <cp:revision>4</cp:revision>
  <dc:subject/>
  <dc:title>PowerPoint Presentation</dc:title>
</cp:coreProperties>
</file>