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A5D-312C-4690-A04F-A9A82845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11B-3A14-4C57-9A20-4BDBE117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D81-607D-424E-BF3F-91D1412F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9E1-3E51-402C-B56E-AA4C477C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E89-C6DE-46C0-A26D-98CADD3E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484-ACD2-47DB-96D8-7B101F0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904-2A68-4A1C-A8A1-726E84A2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667-E326-4B93-9492-B32A50BE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F72-40D5-4976-A801-FDF7F175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34C-D02F-4494-A2A7-5AFC078A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153-1AE3-441D-A3FB-A01E5A21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220-B312-47AE-922A-B64D87C3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7E55-A526-41E8-9C96-5CFE72990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457200" y="533520"/>
            <a:ext cx="8077320" cy="5364360"/>
            <a:chOff x="457200" y="533520"/>
            <a:chExt cx="8077320" cy="5364360"/>
          </a:xfrm>
        </p:grpSpPr>
        <p:sp>
          <p:nvSpPr>
            <p:cNvPr id="42" name="Rectangle 1"/>
            <p:cNvSpPr/>
            <p:nvPr/>
          </p:nvSpPr>
          <p:spPr>
            <a:xfrm>
              <a:off x="533160" y="1301760"/>
              <a:ext cx="7925040" cy="45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S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S                   R               R(64)              R(256)             R(128)            R(128)              R(2048)            R(4096)            R(64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   R                     R                       R                     R                       R                      S                     S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   R                     R                       R                     R                       R            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128)            R(128)              R(64)              R(128)              R(2048)           R(4096)            R(128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1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   R                     R                       R 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R            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512)            R(256)              R(128)            R(256)              R(2048)           R(4096)           R(256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7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256)            R(128)              R(128)            R(512)              R(2048)           R(4096)           R(256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    R                    R              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R                      R 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256)            R(512)              R(128)            R(512)              R(2048)           R(4096)           R(128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9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1024)          R(64)                R(128)            R(128)              R(2048)           R(4096)           R(128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2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512)            R(256)              R(512)            R(512)              R(2048)           R(4096)           R(256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128)            R(256)              R(128)            R(1024)            R(2048)           R(4096)           R(256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4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    R                    R                        R                    R   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 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8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    R                    R                        R                    R   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 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1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256)           R(512)              R(256)            R(1024)             R(2048)           R(4096)           R(256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8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128)           R(1024)            R(128)            R(512)               R(2048)           R(4096)           R(128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256)           R(512)              R(128)            R(256)               R(2048)           R(4096)           R(128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1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128)           R(512)              R(128)            R(512)               R(2048)           R(4096)           R(256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2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R                    R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R                  R               R(128)           R(512)              R(128)            R(512)               R(2048)           R(4096)           R(256)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pt-B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S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2"/>
            <p:cNvSpPr/>
            <p:nvPr/>
          </p:nvSpPr>
          <p:spPr>
            <a:xfrm>
              <a:off x="457200" y="834840"/>
              <a:ext cx="792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late #        AMP         PEN            GEN        KAN          MET         CIP              NOR             LEV             ENR              OXA             ERY             TET         VAN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1" lang="pt-BR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0)           (10)             (120)         (30)             (5)             (5)                 (5)                 (2)                 (5)                 (1)                 (15)              (30)            (30) 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Straight Connector 6"/>
            <p:cNvSpPr/>
            <p:nvPr/>
          </p:nvSpPr>
          <p:spPr>
            <a:xfrm>
              <a:off x="457200" y="1219320"/>
              <a:ext cx="7848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7"/>
            <p:cNvSpPr/>
            <p:nvPr/>
          </p:nvSpPr>
          <p:spPr>
            <a:xfrm>
              <a:off x="457200" y="3810240"/>
              <a:ext cx="7848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Straight Connector 8"/>
            <p:cNvSpPr/>
            <p:nvPr/>
          </p:nvSpPr>
          <p:spPr>
            <a:xfrm>
              <a:off x="457200" y="838080"/>
              <a:ext cx="7848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TextBox 7"/>
            <p:cNvSpPr/>
            <p:nvPr/>
          </p:nvSpPr>
          <p:spPr>
            <a:xfrm>
              <a:off x="487080" y="533520"/>
              <a:ext cx="804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lemental Table S1. Antibiogram and MIC data for MRSA isolates from Pakistan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8"/>
            <p:cNvSpPr/>
            <p:nvPr/>
          </p:nvSpPr>
          <p:spPr>
            <a:xfrm>
              <a:off x="487080" y="3809520"/>
              <a:ext cx="7925040" cy="10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 = Resistant; S = Sensitive; AMP = Ampicillin; PEN = Penicillin; GEN = Gentamicin; KAN = Kanamycin; MET = Methicillin; CIP = Ciprofloxacin;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 = Norfloxacin; LEV = Levofloxacin; ENR = Enrofloxacin; OXA = Oxacillin; ERY= Erythromycin; TET = Tetracycline; VAN = Vancomyc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number in parentheses under antibiotic name indicates the concentration of antibiotic on a disk in μg/mL and that present after letter R indicates the minimum inhibitory concentration of the antibiotic at which the isolate stops growing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 of the data in this table was published in Marasa et al, Med. Res. Arch. 2015, 2,1-14.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21:52:09Z</dcterms:created>
  <dc:creator>Khan, Saeed</dc:creator>
  <dc:description/>
  <dc:language>en-US</dc:language>
  <cp:lastModifiedBy>Khan, Saeed</cp:lastModifiedBy>
  <dcterms:modified xsi:type="dcterms:W3CDTF">2021-07-14T14:07:57Z</dcterms:modified>
  <cp:revision>85</cp:revision>
  <dc:subject/>
  <dc:title>PowerPoint Presentation</dc:title>
</cp:coreProperties>
</file>