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8999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687680" y="685440"/>
            <a:ext cx="34826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41B8-64FD-4F81-AC15-C628BEFCD015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687680" y="685800"/>
            <a:ext cx="34826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1.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Diagram showing the workflow followed for the RNA-Seq from sample preparation to differential ex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3A2EB-FE84-4378-82D2-581CD4D9014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0546-4423-49BF-90CB-7248DA90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520272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E04-0957-4F36-81F8-A0F0B008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520272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520272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9AE-1425-4BF9-B653-5372D16F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09988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09988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520272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520272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5202720"/>
            <a:ext cx="264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1D6-3E8D-4C8D-8758-E0FC39FF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0998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7CB3-1EB2-4E12-A151-82F986A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ADF0-51A1-4068-8EBF-477317C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6EA-B969-4394-8576-8EC37187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D09A-1110-4A67-B32A-BB8456A1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60000"/>
            <a:ext cx="8229600" cy="69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D7C-EDAB-4C56-8100-B4355A7B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520272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7A0-DD87-486E-BAA2-C9ADACB8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520272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EB8-4425-49EE-9687-6A9DDDCF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099880"/>
            <a:ext cx="40158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5202720"/>
            <a:ext cx="8229600" cy="28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55C-2B7D-4CEF-A249-793A900E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6000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9988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8342280"/>
            <a:ext cx="2133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8342280"/>
            <a:ext cx="28958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8342280"/>
            <a:ext cx="21337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F30F-CECA-4E02-AB9D-80031DED8D5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4 Conector recto de flecha"/>
          <p:cNvCxnSpPr/>
          <p:nvPr/>
        </p:nvCxnSpPr>
        <p:spPr>
          <a:xfrm flipH="1">
            <a:off x="1907640" y="6421320"/>
            <a:ext cx="1945440" cy="16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0 Rectángulo"/>
          <p:cNvSpPr/>
          <p:nvPr/>
        </p:nvSpPr>
        <p:spPr>
          <a:xfrm>
            <a:off x="973080" y="888840"/>
            <a:ext cx="7199280" cy="135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0 Rectángulo"/>
          <p:cNvSpPr/>
          <p:nvPr/>
        </p:nvSpPr>
        <p:spPr>
          <a:xfrm>
            <a:off x="1044720" y="3114720"/>
            <a:ext cx="7027560" cy="2533680"/>
          </a:xfrm>
          <a:prstGeom prst="rect">
            <a:avLst/>
          </a:prstGeom>
          <a:solidFill>
            <a:srgbClr val="51184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1 Rectángulo"/>
          <p:cNvSpPr/>
          <p:nvPr/>
        </p:nvSpPr>
        <p:spPr>
          <a:xfrm>
            <a:off x="1030320" y="5883120"/>
            <a:ext cx="7041960" cy="2779920"/>
          </a:xfrm>
          <a:prstGeom prst="rect">
            <a:avLst/>
          </a:prstGeom>
          <a:solidFill>
            <a:srgbClr val="3d3d6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2 Rectángulo"/>
          <p:cNvSpPr/>
          <p:nvPr/>
        </p:nvSpPr>
        <p:spPr>
          <a:xfrm>
            <a:off x="1044720" y="108000"/>
            <a:ext cx="7027560" cy="2746440"/>
          </a:xfrm>
          <a:prstGeom prst="rect">
            <a:avLst/>
          </a:prstGeom>
          <a:solidFill>
            <a:srgbClr val="900c3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3 Elipse"/>
          <p:cNvSpPr/>
          <p:nvPr/>
        </p:nvSpPr>
        <p:spPr>
          <a:xfrm>
            <a:off x="3565440" y="6818400"/>
            <a:ext cx="2144880" cy="619200"/>
          </a:xfrm>
          <a:prstGeom prst="ellipse">
            <a:avLst/>
          </a:prstGeom>
          <a:solidFill>
            <a:srgbClr val="d9d9d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4 Elipse"/>
          <p:cNvSpPr/>
          <p:nvPr/>
        </p:nvSpPr>
        <p:spPr>
          <a:xfrm>
            <a:off x="2629080" y="6829560"/>
            <a:ext cx="2144520" cy="618840"/>
          </a:xfrm>
          <a:prstGeom prst="ellipse">
            <a:avLst/>
          </a:prstGeom>
          <a:solidFill>
            <a:srgbClr val="7f7f7f">
              <a:alpha val="64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5 CuadroTexto"/>
          <p:cNvSpPr/>
          <p:nvPr/>
        </p:nvSpPr>
        <p:spPr>
          <a:xfrm>
            <a:off x="3359160" y="96192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tracellular vesic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6 CuadroTexto"/>
          <p:cNvSpPr/>
          <p:nvPr/>
        </p:nvSpPr>
        <p:spPr>
          <a:xfrm>
            <a:off x="2828880" y="1373040"/>
            <a:ext cx="259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NA extra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miRNeasy Mini Kit, Qiage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2976480" y="1906560"/>
            <a:ext cx="22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NA qua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y NanoDrop ND-1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4 CuadroTexto"/>
          <p:cNvSpPr/>
          <p:nvPr/>
        </p:nvSpPr>
        <p:spPr>
          <a:xfrm>
            <a:off x="3008160" y="3129120"/>
            <a:ext cx="2279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NA quantification and Q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y Agilent 2100 Bioanaly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5 CuadroTexto"/>
          <p:cNvSpPr/>
          <p:nvPr/>
        </p:nvSpPr>
        <p:spPr>
          <a:xfrm>
            <a:off x="3029040" y="3695760"/>
            <a:ext cx="22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RNA depletion (Ribo-Ze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rification and fragmen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6 CuadroTexto"/>
          <p:cNvSpPr/>
          <p:nvPr/>
        </p:nvSpPr>
        <p:spPr>
          <a:xfrm>
            <a:off x="3013200" y="4206960"/>
            <a:ext cx="22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rary preparation by strand-specific cDNA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7 CuadroTexto"/>
          <p:cNvSpPr/>
          <p:nvPr/>
        </p:nvSpPr>
        <p:spPr>
          <a:xfrm>
            <a:off x="3024360" y="4719600"/>
            <a:ext cx="227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ality control and normalization of the libr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8 CuadroTexto"/>
          <p:cNvSpPr/>
          <p:nvPr/>
        </p:nvSpPr>
        <p:spPr>
          <a:xfrm>
            <a:off x="2940120" y="5226120"/>
            <a:ext cx="2568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ired-en sequencing by Illumina HiSeq  X Ten (40-50·10</a:t>
            </a:r>
            <a:r>
              <a:rPr b="0" lang="es-ES" sz="1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reads/sampl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9 CuadroTexto"/>
          <p:cNvSpPr/>
          <p:nvPr/>
        </p:nvSpPr>
        <p:spPr>
          <a:xfrm>
            <a:off x="2941560" y="5883120"/>
            <a:ext cx="227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astq 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CuadroTexto"/>
          <p:cNvSpPr/>
          <p:nvPr/>
        </p:nvSpPr>
        <p:spPr>
          <a:xfrm>
            <a:off x="2989440" y="6292800"/>
            <a:ext cx="227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astQ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1 CuadroTexto"/>
          <p:cNvSpPr/>
          <p:nvPr/>
        </p:nvSpPr>
        <p:spPr>
          <a:xfrm>
            <a:off x="2773440" y="65642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W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2 CuadroTexto"/>
          <p:cNvSpPr/>
          <p:nvPr/>
        </p:nvSpPr>
        <p:spPr>
          <a:xfrm>
            <a:off x="4716360" y="6539040"/>
            <a:ext cx="86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owt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3 CuadroTexto"/>
          <p:cNvSpPr/>
          <p:nvPr/>
        </p:nvSpPr>
        <p:spPr>
          <a:xfrm>
            <a:off x="2700360" y="6937200"/>
            <a:ext cx="1000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iri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SJ reads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DFKai-SB"/>
              </a:rPr>
              <a:t>≥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4 CuadroTexto"/>
          <p:cNvSpPr/>
          <p:nvPr/>
        </p:nvSpPr>
        <p:spPr>
          <a:xfrm>
            <a:off x="4500720" y="68864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ind_ci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Mapq=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SJ reads≥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15 CuadroTexto"/>
          <p:cNvSpPr/>
          <p:nvPr/>
        </p:nvSpPr>
        <p:spPr>
          <a:xfrm>
            <a:off x="3436920" y="6910560"/>
            <a:ext cx="1495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Comm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circR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(bona fid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16 CuadroTexto"/>
          <p:cNvSpPr/>
          <p:nvPr/>
        </p:nvSpPr>
        <p:spPr>
          <a:xfrm>
            <a:off x="2708280" y="7547040"/>
            <a:ext cx="28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e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17 CuadroTexto"/>
          <p:cNvSpPr/>
          <p:nvPr/>
        </p:nvSpPr>
        <p:spPr>
          <a:xfrm>
            <a:off x="2962440" y="8029440"/>
            <a:ext cx="237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Present in both grou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FC&gt;|1.5| and p&lt;0.05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(</a:t>
            </a:r>
            <a:r>
              <a:rPr b="0" i="1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DE transcript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19 Conector recto de flecha"/>
          <p:cNvCxnSpPr/>
          <p:nvPr/>
        </p:nvCxnSpPr>
        <p:spPr>
          <a:xfrm>
            <a:off x="4120920" y="117756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43 Conector recto de flecha"/>
          <p:cNvCxnSpPr/>
          <p:nvPr/>
        </p:nvCxnSpPr>
        <p:spPr>
          <a:xfrm>
            <a:off x="4111200" y="173520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44 Conector recto de flecha"/>
          <p:cNvCxnSpPr/>
          <p:nvPr/>
        </p:nvCxnSpPr>
        <p:spPr>
          <a:xfrm>
            <a:off x="4105080" y="2822400"/>
            <a:ext cx="1080" cy="293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45 Conector recto de flecha"/>
          <p:cNvCxnSpPr/>
          <p:nvPr/>
        </p:nvCxnSpPr>
        <p:spPr>
          <a:xfrm>
            <a:off x="4106520" y="5601960"/>
            <a:ext cx="1080" cy="292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46 Conector recto de flecha"/>
          <p:cNvCxnSpPr/>
          <p:nvPr/>
        </p:nvCxnSpPr>
        <p:spPr>
          <a:xfrm>
            <a:off x="4098600" y="351432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47 Conector recto de flecha"/>
          <p:cNvCxnSpPr/>
          <p:nvPr/>
        </p:nvCxnSpPr>
        <p:spPr>
          <a:xfrm>
            <a:off x="4098600" y="4060440"/>
            <a:ext cx="10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48 Conector recto de flecha"/>
          <p:cNvCxnSpPr/>
          <p:nvPr/>
        </p:nvCxnSpPr>
        <p:spPr>
          <a:xfrm>
            <a:off x="4098600" y="45799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49 Conector recto de flecha"/>
          <p:cNvCxnSpPr/>
          <p:nvPr/>
        </p:nvCxnSpPr>
        <p:spPr>
          <a:xfrm>
            <a:off x="4106520" y="508176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50 Conector recto de flecha"/>
          <p:cNvCxnSpPr/>
          <p:nvPr/>
        </p:nvCxnSpPr>
        <p:spPr>
          <a:xfrm>
            <a:off x="4106520" y="6113520"/>
            <a:ext cx="1080" cy="21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51 Conector recto de flecha"/>
          <p:cNvCxnSpPr>
            <a:endCxn id="61" idx="0"/>
          </p:cNvCxnSpPr>
          <p:nvPr/>
        </p:nvCxnSpPr>
        <p:spPr>
          <a:xfrm flipV="1">
            <a:off x="3852360" y="4719600"/>
            <a:ext cx="312120" cy="170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52 Conector recto de flecha"/>
          <p:cNvCxnSpPr/>
          <p:nvPr/>
        </p:nvCxnSpPr>
        <p:spPr>
          <a:xfrm>
            <a:off x="4387680" y="6418080"/>
            <a:ext cx="618480" cy="12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53 Conector recto de flecha"/>
          <p:cNvCxnSpPr/>
          <p:nvPr/>
        </p:nvCxnSpPr>
        <p:spPr>
          <a:xfrm>
            <a:off x="3204720" y="675648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54 Conector recto de flecha"/>
          <p:cNvCxnSpPr/>
          <p:nvPr/>
        </p:nvCxnSpPr>
        <p:spPr>
          <a:xfrm>
            <a:off x="5149440" y="67338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55 Conector recto de flecha"/>
          <p:cNvCxnSpPr/>
          <p:nvPr/>
        </p:nvCxnSpPr>
        <p:spPr>
          <a:xfrm>
            <a:off x="4174920" y="7365600"/>
            <a:ext cx="108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50 CuadroTexto"/>
          <p:cNvSpPr/>
          <p:nvPr/>
        </p:nvSpPr>
        <p:spPr>
          <a:xfrm>
            <a:off x="5846760" y="1073160"/>
            <a:ext cx="21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00c3f"/>
                </a:solidFill>
                <a:latin typeface="Arial"/>
                <a:ea typeface="Lao UI"/>
              </a:rPr>
              <a:t>Sample</a:t>
            </a:r>
            <a:r>
              <a:rPr b="1" lang="es-ES" sz="2000" spc="-1" strike="noStrike">
                <a:solidFill>
                  <a:srgbClr val="900c3f"/>
                </a:solidFill>
                <a:latin typeface="Arial"/>
                <a:ea typeface="Lao UI"/>
              </a:rPr>
              <a:t> </a:t>
            </a:r>
            <a:r>
              <a:rPr b="1" lang="es-ES" sz="1600" spc="-1" strike="noStrike">
                <a:solidFill>
                  <a:srgbClr val="900c3f"/>
                </a:solidFill>
                <a:latin typeface="Arial"/>
                <a:ea typeface="Lao UI"/>
              </a:rPr>
              <a:t>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51 CuadroTexto"/>
          <p:cNvSpPr/>
          <p:nvPr/>
        </p:nvSpPr>
        <p:spPr>
          <a:xfrm>
            <a:off x="5148360" y="415908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11849"/>
                </a:solidFill>
                <a:latin typeface="Arial"/>
                <a:ea typeface="Lao UI"/>
              </a:rPr>
              <a:t>Library prep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511849"/>
                </a:solidFill>
                <a:latin typeface="Arial"/>
                <a:ea typeface="Lao UI"/>
              </a:rPr>
              <a:t>and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52 CuadroTexto"/>
          <p:cNvSpPr/>
          <p:nvPr/>
        </p:nvSpPr>
        <p:spPr>
          <a:xfrm>
            <a:off x="5219640" y="6738840"/>
            <a:ext cx="338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d3d6b"/>
                </a:solidFill>
                <a:latin typeface="Arial"/>
                <a:ea typeface="Lao UI"/>
              </a:rPr>
              <a:t>Detec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d3d6b"/>
                </a:solidFill>
                <a:latin typeface="Arial"/>
                <a:ea typeface="Lao UI"/>
              </a:rPr>
              <a:t>quantification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d3d6b"/>
                </a:solidFill>
                <a:latin typeface="Arial"/>
                <a:ea typeface="Lao UI"/>
              </a:rPr>
              <a:t>differential exp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9 Flecha abajo"/>
          <p:cNvSpPr/>
          <p:nvPr/>
        </p:nvSpPr>
        <p:spPr>
          <a:xfrm>
            <a:off x="6518160" y="1517760"/>
            <a:ext cx="665280" cy="25430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900c3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0 Flecha abajo"/>
          <p:cNvSpPr/>
          <p:nvPr/>
        </p:nvSpPr>
        <p:spPr>
          <a:xfrm>
            <a:off x="6518160" y="4791240"/>
            <a:ext cx="665280" cy="1766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51184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14 Conector recto de flecha"/>
          <p:cNvCxnSpPr>
            <a:stCxn id="70" idx="2"/>
            <a:endCxn id="71" idx="0"/>
          </p:cNvCxnSpPr>
          <p:nvPr/>
        </p:nvCxnSpPr>
        <p:spPr>
          <a:xfrm>
            <a:off x="4147920" y="7793280"/>
            <a:ext cx="2880" cy="23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2" name="15 CuadroTexto"/>
          <p:cNvSpPr/>
          <p:nvPr/>
        </p:nvSpPr>
        <p:spPr>
          <a:xfrm>
            <a:off x="1452600" y="6975360"/>
            <a:ext cx="99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TS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16 CuadroTexto"/>
          <p:cNvSpPr/>
          <p:nvPr/>
        </p:nvSpPr>
        <p:spPr>
          <a:xfrm>
            <a:off x="490680" y="7547040"/>
            <a:ext cx="288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eq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18 Conector recto de flecha"/>
          <p:cNvCxnSpPr>
            <a:stCxn id="93" idx="2"/>
            <a:endCxn id="95" idx="0"/>
          </p:cNvCxnSpPr>
          <p:nvPr/>
        </p:nvCxnSpPr>
        <p:spPr>
          <a:xfrm flipH="1">
            <a:off x="1931760" y="7793280"/>
            <a:ext cx="72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19 Conector recto de flecha"/>
          <p:cNvCxnSpPr/>
          <p:nvPr/>
        </p:nvCxnSpPr>
        <p:spPr>
          <a:xfrm>
            <a:off x="1907640" y="7232400"/>
            <a:ext cx="1080" cy="31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7" name="9 CuadroTexto"/>
          <p:cNvSpPr/>
          <p:nvPr/>
        </p:nvSpPr>
        <p:spPr>
          <a:xfrm>
            <a:off x="1476360" y="65660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7 Conector recto de flecha"/>
          <p:cNvCxnSpPr/>
          <p:nvPr/>
        </p:nvCxnSpPr>
        <p:spPr>
          <a:xfrm>
            <a:off x="1907640" y="6783480"/>
            <a:ext cx="1080" cy="21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25 CuadroTexto"/>
          <p:cNvSpPr/>
          <p:nvPr/>
        </p:nvSpPr>
        <p:spPr>
          <a:xfrm>
            <a:off x="3363840" y="179280"/>
            <a:ext cx="151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hole bl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19 Conector recto de flecha"/>
          <p:cNvCxnSpPr/>
          <p:nvPr/>
        </p:nvCxnSpPr>
        <p:spPr>
          <a:xfrm>
            <a:off x="4125600" y="39672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" name="25 CuadroTexto"/>
          <p:cNvSpPr/>
          <p:nvPr/>
        </p:nvSpPr>
        <p:spPr>
          <a:xfrm>
            <a:off x="3373560" y="58248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las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19 Conector recto de flecha"/>
          <p:cNvCxnSpPr/>
          <p:nvPr/>
        </p:nvCxnSpPr>
        <p:spPr>
          <a:xfrm>
            <a:off x="4120920" y="7808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3" name="3 CuadroTexto"/>
          <p:cNvSpPr/>
          <p:nvPr/>
        </p:nvSpPr>
        <p:spPr>
          <a:xfrm>
            <a:off x="2852640" y="2436840"/>
            <a:ext cx="2552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mple poo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4 RR-MS, 4 SP-MS and 4 HC poo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43 Conector recto de flecha"/>
          <p:cNvCxnSpPr/>
          <p:nvPr/>
        </p:nvCxnSpPr>
        <p:spPr>
          <a:xfrm>
            <a:off x="4105080" y="2268000"/>
            <a:ext cx="1080" cy="21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17 CuadroTexto"/>
          <p:cNvSpPr/>
          <p:nvPr/>
        </p:nvSpPr>
        <p:spPr>
          <a:xfrm>
            <a:off x="744480" y="8069400"/>
            <a:ext cx="237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Present in one group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and absent in the oth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(Group-exclusive transcript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  <a:ea typeface="Lao UI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18 Conector recto de flecha"/>
          <p:cNvCxnSpPr>
            <a:stCxn id="93" idx="2"/>
            <a:endCxn id="71" idx="0"/>
          </p:cNvCxnSpPr>
          <p:nvPr/>
        </p:nvCxnSpPr>
        <p:spPr>
          <a:xfrm>
            <a:off x="1932120" y="7793280"/>
            <a:ext cx="2218680" cy="23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18 Conector recto de flecha"/>
          <p:cNvCxnSpPr>
            <a:stCxn id="70" idx="2"/>
            <a:endCxn id="95" idx="0"/>
          </p:cNvCxnSpPr>
          <p:nvPr/>
        </p:nvCxnSpPr>
        <p:spPr>
          <a:xfrm flipH="1">
            <a:off x="1931760" y="7793280"/>
            <a:ext cx="2216520" cy="27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22T14:41:36Z</dcterms:created>
  <dc:creator>LeirePC</dc:creator>
  <dc:description/>
  <dc:language>en-US</dc:language>
  <cp:lastModifiedBy>LEIRE IPARAGUIRRE GIL</cp:lastModifiedBy>
  <dcterms:modified xsi:type="dcterms:W3CDTF">2021-09-08T09:17:29Z</dcterms:modified>
  <cp:revision>5</cp:revision>
  <dc:subject/>
  <dc:title>Diapositiva 1</dc:title>
</cp:coreProperties>
</file>