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AA9C-5E00-42EE-BBC0-E9835A4C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AB04-4F81-433B-9D8B-21482E6B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F710-6BD5-4621-9B75-099695B4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B03-08C5-4C24-9029-CB97BC3C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131D-08A4-4B96-ADFA-B31CC81A3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4CCD-08B8-49C9-A29A-8374D9EB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98658-D033-4277-824A-5152BD3C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60A5-7992-42E4-950B-C11E8999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ABA3-5A3F-4313-9ED1-D45A25EC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E081-D9E6-436C-AE54-AD2C3E201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0AA0-B128-4E18-B3F0-E19EF9D8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6D2A-BC9F-4B53-BE92-A1240F92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80D1-6AE4-4915-9C95-0B72B68E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5F30D-0E2F-422B-90D0-426634FD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3E57-8212-4EDE-BB83-5F15D2DD6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5496F-2D0A-410C-A578-17C79291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7F54-06CE-4DEB-B433-0E744723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CF8E-5F8B-4595-9E9E-49888977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A222-12A0-409B-B31B-1823218D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381B-9597-45AB-83CA-7D4BBCDA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526-E902-4465-AB84-1EA603E9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52E-8DD8-410E-9B9A-6A3DCBF0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5F35-1CDF-49A6-8BD7-0950AADFE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09D-756F-48C5-ABD8-14271611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1F3F-7D25-4F75-AD30-4646CB388A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C42C4-F599-4141-A7DB-D6D35E3431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5520" y="1123920"/>
            <a:ext cx="811044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Storage drives alterations of proteomic and protein structural properties in rice (Oryza sativa L.)</a:t>
            </a:r>
            <a:br>
              <a:rPr sz="2000"/>
            </a:b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602160"/>
            <a:ext cx="6858000" cy="22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Palatino Linotype"/>
              </a:rPr>
              <a:t>Qian Wang, Dong Zhang, Jianlei Liu, Bo Shang, Xiaolaing Duan, Hui Sun*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Palatino Linotype"/>
              </a:rPr>
              <a:t>Academy of National Food and Strategic Reserves Administration, Beijing 100037, PR 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Palatino Linotype"/>
              </a:rPr>
              <a:t>Supplementary Materials</a:t>
            </a:r>
            <a:r>
              <a:rPr b="1" lang="en-US" sz="3200" spc="-1" strike="noStrike">
                <a:solidFill>
                  <a:srgbClr val="000000"/>
                </a:solidFill>
                <a:latin typeface="Palatino Linotype"/>
              </a:rPr>
              <a:t>-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558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280" y="558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558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88" name="标题 1"/>
          <p:cNvSpPr/>
          <p:nvPr/>
        </p:nvSpPr>
        <p:spPr>
          <a:xfrm>
            <a:off x="395280" y="558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558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94" name="标题 1"/>
          <p:cNvSpPr/>
          <p:nvPr/>
        </p:nvSpPr>
        <p:spPr>
          <a:xfrm>
            <a:off x="395280" y="558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558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558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558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内容占位符 3" descr=""/>
          <p:cNvPicPr/>
          <p:nvPr/>
        </p:nvPicPr>
        <p:blipFill>
          <a:blip r:embed="rId1"/>
          <a:stretch/>
        </p:blipFill>
        <p:spPr>
          <a:xfrm>
            <a:off x="457200" y="2049480"/>
            <a:ext cx="8229600" cy="36273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58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alatino Linotype"/>
              </a:rPr>
              <a:t>Figure S2. 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The chromatograms of LC-MS of 10 peptide fractions of rice sa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"/>
          <p:cNvSpPr/>
          <p:nvPr/>
        </p:nvSpPr>
        <p:spPr>
          <a:xfrm>
            <a:off x="324000" y="620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Flow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0-25T11:57:32Z</dcterms:created>
  <dc:creator>admin</dc:creator>
  <dc:description/>
  <dc:language>en-US</dc:language>
  <cp:lastModifiedBy>会飞的鱼</cp:lastModifiedBy>
  <dcterms:modified xsi:type="dcterms:W3CDTF">2022-10-27T12:31:58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590573D6956490CACAF84E3729DDBC0</vt:lpwstr>
  </property>
  <property fmtid="{D5CDD505-2E9C-101B-9397-08002B2CF9AE}" pid="3" name="KSOProductBuildVer">
    <vt:lpwstr>2052-11.1.0.12598</vt:lpwstr>
  </property>
</Properties>
</file>