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CF2-9936-4945-8942-631C9DA4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4B5-1D10-4E32-ADFA-9670DA5E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980-98CC-405F-B017-86045919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390-F88B-46C9-AE7A-B7989618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5C18-CFDD-4725-813B-4CCBB3CE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DA45-8F9B-4768-A6F2-668F74A5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5AF2-6123-4D46-B770-CCC3E8D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69F-AAE0-4E79-85B2-66EFAAD6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9AEE-A374-4B36-96C9-0B1203CF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59AE-49CF-4F08-B7A2-4EFC0730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91EE-1400-4A44-BCA2-FEB781F5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369-9C22-41B9-A57A-1DEAA8E9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93CD-60AD-45FA-BC90-8CBBB6D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0DED-55EF-45D2-B4D5-CF273EB0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1724-B568-4662-925B-5E639683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A108-9BCC-4D94-87BC-3E0D599B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C6A8-E759-478E-93D4-5164CC66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161-D48D-44FF-8EE9-31418441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143-4BAB-4DD4-AC58-1602F17C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E0A-DDDE-49AD-8408-D3890FC4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7F0-F381-4174-9B96-7322FC35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ABC-DABA-40DC-930F-0A924D8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837-3C20-4173-9EF2-BEF47A7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FDB-2038-4B4C-BC5B-652CDCD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FCE3A1-F8A8-4A15-9DEF-6FA1D2CB12D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4CB82E-B163-4AE2-9518-26EB64CBC3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-2147482624" descr="FigureS1"/>
          <p:cNvPicPr/>
          <p:nvPr/>
        </p:nvPicPr>
        <p:blipFill>
          <a:blip r:embed="rId1"/>
          <a:stretch/>
        </p:blipFill>
        <p:spPr>
          <a:xfrm>
            <a:off x="2898720" y="1614240"/>
            <a:ext cx="2968920" cy="4057920"/>
          </a:xfrm>
          <a:prstGeom prst="rect">
            <a:avLst/>
          </a:prstGeom>
          <a:ln w="9525">
            <a:noFill/>
          </a:ln>
        </p:spPr>
      </p:pic>
      <p:sp>
        <p:nvSpPr>
          <p:cNvPr id="83" name="文本框 99"/>
          <p:cNvSpPr/>
          <p:nvPr/>
        </p:nvSpPr>
        <p:spPr>
          <a:xfrm>
            <a:off x="1200240" y="727200"/>
            <a:ext cx="9630720" cy="58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1.  Map of the China–Myanmar border sites, Laiza and Muse, where parasites were colle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22"/>
          <p:cNvSpPr/>
          <p:nvPr/>
        </p:nvSpPr>
        <p:spPr>
          <a:xfrm>
            <a:off x="255600" y="443520"/>
            <a:ext cx="3637080" cy="53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ultidrug resistance haplotypes of parasites from Laiza and Muse. Mutant amino acids are in bold. The haplotypes include Pfcrt(76T), pfmdr1 (Y184F/F1226Y), pfdhfr (N51I/59R/108N/I164L), pfdhps (S436A/K540N/E/A581G), and pfk13 (446I or 458Y;—indicates K13 WT). The four parasites with quadruple or triple dhfr/dhps mutations are highlighted in cyan and yellow color, respectively. Group 1—76T, quintuple–sextuple dhfr/dhps, and K13 mutations (MDR); Group 2—76T and quintuple–sextuple dhfr/dhp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12"/>
          <p:cNvGrpSpPr/>
          <p:nvPr/>
        </p:nvGrpSpPr>
        <p:grpSpPr>
          <a:xfrm>
            <a:off x="4424040" y="-1588680"/>
            <a:ext cx="3344760" cy="10035360"/>
            <a:chOff x="4424040" y="-1588680"/>
            <a:chExt cx="3344760" cy="10035360"/>
          </a:xfrm>
        </p:grpSpPr>
        <p:grpSp>
          <p:nvGrpSpPr>
            <p:cNvPr id="141" name="组合 11"/>
            <p:cNvGrpSpPr/>
            <p:nvPr/>
          </p:nvGrpSpPr>
          <p:grpSpPr>
            <a:xfrm>
              <a:off x="4424040" y="-1588680"/>
              <a:ext cx="3344760" cy="10035360"/>
              <a:chOff x="4424040" y="-1588680"/>
              <a:chExt cx="3344760" cy="10035360"/>
            </a:xfrm>
          </p:grpSpPr>
          <p:sp>
            <p:nvSpPr>
              <p:cNvPr id="142" name="文本框 4"/>
              <p:cNvSpPr/>
              <p:nvPr/>
            </p:nvSpPr>
            <p:spPr>
              <a:xfrm>
                <a:off x="6454080" y="-1469880"/>
                <a:ext cx="1314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roup (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组合 10"/>
              <p:cNvGrpSpPr/>
              <p:nvPr/>
            </p:nvGrpSpPr>
            <p:grpSpPr>
              <a:xfrm>
                <a:off x="4424040" y="-1588680"/>
                <a:ext cx="2741760" cy="10035360"/>
                <a:chOff x="4424040" y="-1588680"/>
                <a:chExt cx="2741760" cy="10035360"/>
              </a:xfrm>
            </p:grpSpPr>
            <p:sp>
              <p:nvSpPr>
                <p:cNvPr id="144" name="Right Brace 2"/>
                <p:cNvSpPr/>
                <p:nvPr/>
              </p:nvSpPr>
              <p:spPr>
                <a:xfrm>
                  <a:off x="6346800" y="-950040"/>
                  <a:ext cx="75960" cy="4536000"/>
                </a:xfrm>
                <a:prstGeom prst="rightBrace">
                  <a:avLst>
                    <a:gd name="adj1" fmla="val 8410"/>
                    <a:gd name="adj2" fmla="val 50000"/>
                  </a:avLst>
                </a:prstGeom>
                <a:noFill/>
                <a:ln w="635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ight Brace 6"/>
                <p:cNvSpPr/>
                <p:nvPr/>
              </p:nvSpPr>
              <p:spPr>
                <a:xfrm>
                  <a:off x="6345000" y="3759840"/>
                  <a:ext cx="75960" cy="576360"/>
                </a:xfrm>
                <a:prstGeom prst="rightBrace">
                  <a:avLst>
                    <a:gd name="adj1" fmla="val 8324"/>
                    <a:gd name="adj2" fmla="val 50000"/>
                  </a:avLst>
                </a:prstGeom>
                <a:noFill/>
                <a:ln w="635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ight Brace 7"/>
                <p:cNvSpPr/>
                <p:nvPr/>
              </p:nvSpPr>
              <p:spPr>
                <a:xfrm>
                  <a:off x="6329160" y="4516200"/>
                  <a:ext cx="87120" cy="1275480"/>
                </a:xfrm>
                <a:prstGeom prst="rightBrace">
                  <a:avLst>
                    <a:gd name="adj1" fmla="val 8327"/>
                    <a:gd name="adj2" fmla="val 50000"/>
                  </a:avLst>
                </a:prstGeom>
                <a:noFill/>
                <a:ln w="635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ight Brace 9"/>
                <p:cNvSpPr/>
                <p:nvPr/>
              </p:nvSpPr>
              <p:spPr>
                <a:xfrm>
                  <a:off x="6345000" y="6141240"/>
                  <a:ext cx="108720" cy="1837800"/>
                </a:xfrm>
                <a:prstGeom prst="rightBrace">
                  <a:avLst>
                    <a:gd name="adj1" fmla="val 8345"/>
                    <a:gd name="adj2" fmla="val 50000"/>
                  </a:avLst>
                </a:prstGeom>
                <a:noFill/>
                <a:ln w="6350">
                  <a:solidFill>
                    <a:srgbClr val="5b9b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组合 9"/>
                <p:cNvGrpSpPr/>
                <p:nvPr/>
              </p:nvGrpSpPr>
              <p:grpSpPr>
                <a:xfrm>
                  <a:off x="4424040" y="-1588680"/>
                  <a:ext cx="2741760" cy="10035360"/>
                  <a:chOff x="4424040" y="-1588680"/>
                  <a:chExt cx="2741760" cy="10035360"/>
                </a:xfrm>
              </p:grpSpPr>
              <p:pic>
                <p:nvPicPr>
                  <p:cNvPr id="149" name="图片 1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424040" y="-1588680"/>
                    <a:ext cx="1820880" cy="10035360"/>
                  </a:xfrm>
                  <a:prstGeom prst="rect">
                    <a:avLst/>
                  </a:prstGeom>
                  <a:ln w="9525">
                    <a:noFill/>
                  </a:ln>
                </p:spPr>
              </p:pic>
              <p:sp>
                <p:nvSpPr>
                  <p:cNvPr id="150" name="文本框 5"/>
                  <p:cNvSpPr/>
                  <p:nvPr/>
                </p:nvSpPr>
                <p:spPr>
                  <a:xfrm>
                    <a:off x="6621840" y="1195560"/>
                    <a:ext cx="543960" cy="241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 (26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文本框 6"/>
              <p:cNvSpPr/>
              <p:nvPr/>
            </p:nvSpPr>
            <p:spPr>
              <a:xfrm>
                <a:off x="6621840" y="3925440"/>
                <a:ext cx="54396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 (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文本框 7"/>
              <p:cNvSpPr/>
              <p:nvPr/>
            </p:nvSpPr>
            <p:spPr>
              <a:xfrm>
                <a:off x="6621840" y="5031720"/>
                <a:ext cx="54396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 (8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文本框 8"/>
            <p:cNvSpPr/>
            <p:nvPr/>
          </p:nvSpPr>
          <p:spPr>
            <a:xfrm>
              <a:off x="6621840" y="6937200"/>
              <a:ext cx="54396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(1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22"/>
          <p:cNvSpPr/>
          <p:nvPr/>
        </p:nvSpPr>
        <p:spPr>
          <a:xfrm>
            <a:off x="783720" y="726480"/>
            <a:ext cx="10264320" cy="53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11. Ring survival rates of parasite isolates in the two border regions. *, P &lt; 0.05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图片 3075"/>
          <p:cNvGraphicFramePr/>
          <p:nvPr/>
        </p:nvGraphicFramePr>
        <p:xfrm>
          <a:off x="3113640" y="2852640"/>
          <a:ext cx="4686120" cy="2885040"/>
        </p:xfrm>
        <a:graphic>
          <a:graphicData uri="http://schemas.openxmlformats.org/presentationml/2006/ole">
            <p:oleObj progId="Prism6.Document" r:id="rId1" spid="">
              <p:embed/>
              <p:pic>
                <p:nvPicPr>
                  <p:cNvPr id="156" name="图片 30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3640" y="2852640"/>
                    <a:ext cx="4686120" cy="2885040"/>
                  </a:xfrm>
                  <a:prstGeom prst="rect">
                    <a:avLst/>
                  </a:prstGeom>
                  <a:ln w="3810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18"/>
          <p:cNvSpPr/>
          <p:nvPr/>
        </p:nvSpPr>
        <p:spPr>
          <a:xfrm>
            <a:off x="4815720" y="3843000"/>
            <a:ext cx="507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19"/>
          <p:cNvSpPr/>
          <p:nvPr/>
        </p:nvSpPr>
        <p:spPr>
          <a:xfrm>
            <a:off x="372600" y="423000"/>
            <a:ext cx="110545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2. Spearman’s correlation between RSA (%) and IC50 values for dihydroartemisinin, artesunate, andartem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图片 6"/>
          <p:cNvGraphicFramePr/>
          <p:nvPr/>
        </p:nvGraphicFramePr>
        <p:xfrm>
          <a:off x="1433880" y="1320120"/>
          <a:ext cx="3485880" cy="2479320"/>
        </p:xfrm>
        <a:graphic>
          <a:graphicData uri="http://schemas.openxmlformats.org/presentationml/2006/ole">
            <p:oleObj progId="Prism6.Document" r:id="rId1" spid="">
              <p:embed/>
              <p:pic>
                <p:nvPicPr>
                  <p:cNvPr id="87" name="图片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880" y="1320120"/>
                    <a:ext cx="3485880" cy="24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图片 8"/>
          <p:cNvGraphicFramePr/>
          <p:nvPr/>
        </p:nvGraphicFramePr>
        <p:xfrm>
          <a:off x="6117120" y="1320120"/>
          <a:ext cx="3568320" cy="2479320"/>
        </p:xfrm>
        <a:graphic>
          <a:graphicData uri="http://schemas.openxmlformats.org/presentationml/2006/ole">
            <p:oleObj progId="Prism6.Document" r:id="rId3" spid="">
              <p:embed/>
              <p:pic>
                <p:nvPicPr>
                  <p:cNvPr id="89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7120" y="1320120"/>
                    <a:ext cx="3568320" cy="24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图片 10"/>
          <p:cNvGraphicFramePr/>
          <p:nvPr/>
        </p:nvGraphicFramePr>
        <p:xfrm>
          <a:off x="1433880" y="4051800"/>
          <a:ext cx="3504240" cy="2497680"/>
        </p:xfrm>
        <a:graphic>
          <a:graphicData uri="http://schemas.openxmlformats.org/presentationml/2006/ole">
            <p:oleObj progId="Prism6.Document" r:id="rId5" spid="">
              <p:embed/>
              <p:pic>
                <p:nvPicPr>
                  <p:cNvPr id="91" name="图片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3880" y="4051800"/>
                    <a:ext cx="3504240" cy="24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99"/>
          <p:cNvSpPr/>
          <p:nvPr/>
        </p:nvSpPr>
        <p:spPr>
          <a:xfrm>
            <a:off x="392400" y="1179360"/>
            <a:ext cx="11683080" cy="47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3. Association of SNPs and major haplotypes in pfdhfr with responses to different antimalarials (shown in the y-axis or below the x-axis). *Indicates significant differences (P &lt; 0.05, Mann–Whitney U test) in sensitivity between parasites carrying the two alleles or haplo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图片 2"/>
          <p:cNvGraphicFramePr/>
          <p:nvPr/>
        </p:nvGraphicFramePr>
        <p:xfrm>
          <a:off x="1616040" y="2292480"/>
          <a:ext cx="2966400" cy="2495880"/>
        </p:xfrm>
        <a:graphic>
          <a:graphicData uri="http://schemas.openxmlformats.org/presentationml/2006/ole">
            <p:oleObj progId="Prism6.Document" r:id="rId1" spid="">
              <p:embed/>
              <p:pic>
                <p:nvPicPr>
                  <p:cNvPr id="94" name="图片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92480"/>
                    <a:ext cx="2966400" cy="24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图片 8"/>
          <p:cNvGraphicFramePr/>
          <p:nvPr/>
        </p:nvGraphicFramePr>
        <p:xfrm>
          <a:off x="6080040" y="2334960"/>
          <a:ext cx="2953080" cy="2410560"/>
        </p:xfrm>
        <a:graphic>
          <a:graphicData uri="http://schemas.openxmlformats.org/presentationml/2006/ole">
            <p:oleObj progId="Prism6.Document" r:id="rId3" spid="">
              <p:embed/>
              <p:pic>
                <p:nvPicPr>
                  <p:cNvPr id="96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0040" y="2334960"/>
                    <a:ext cx="2953080" cy="241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01"/>
          <p:cNvSpPr/>
          <p:nvPr/>
        </p:nvSpPr>
        <p:spPr>
          <a:xfrm>
            <a:off x="513000" y="752400"/>
            <a:ext cx="109872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4: Association of SNPs and major haplotypes in pfcrt with responses to different anti-malarials (shown in the y-axis or below the x-axis). *Indicates significant differences (P &lt; 0.05, Mann–Whitney U test) in sensitivity between parasites carrying the two alleles or haplo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图片 8"/>
          <p:cNvGraphicFramePr/>
          <p:nvPr/>
        </p:nvGraphicFramePr>
        <p:xfrm>
          <a:off x="1527840" y="2103840"/>
          <a:ext cx="2250720" cy="2294640"/>
        </p:xfrm>
        <a:graphic>
          <a:graphicData uri="http://schemas.openxmlformats.org/presentationml/2006/ole">
            <p:oleObj progId="Prism6.Document" r:id="rId1" spid="">
              <p:embed/>
              <p:pic>
                <p:nvPicPr>
                  <p:cNvPr id="99" name="图片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840" y="2103840"/>
                    <a:ext cx="2250720" cy="22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图片 10"/>
          <p:cNvGraphicFramePr/>
          <p:nvPr/>
        </p:nvGraphicFramePr>
        <p:xfrm>
          <a:off x="4519440" y="2134080"/>
          <a:ext cx="2270880" cy="2294640"/>
        </p:xfrm>
        <a:graphic>
          <a:graphicData uri="http://schemas.openxmlformats.org/presentationml/2006/ole">
            <p:oleObj progId="Prism6.Document" r:id="rId3" spid="">
              <p:embed/>
              <p:pic>
                <p:nvPicPr>
                  <p:cNvPr id="101" name="图片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9440" y="2134080"/>
                    <a:ext cx="2270880" cy="22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图片 12"/>
          <p:cNvGraphicFramePr/>
          <p:nvPr/>
        </p:nvGraphicFramePr>
        <p:xfrm>
          <a:off x="7531200" y="2134080"/>
          <a:ext cx="2302200" cy="2353680"/>
        </p:xfrm>
        <a:graphic>
          <a:graphicData uri="http://schemas.openxmlformats.org/presentationml/2006/ole">
            <p:oleObj progId="Prism6.Document" r:id="rId5" spid="">
              <p:embed/>
              <p:pic>
                <p:nvPicPr>
                  <p:cNvPr id="103" name="图片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31200" y="2134080"/>
                    <a:ext cx="2302200" cy="23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04"/>
          <p:cNvSpPr/>
          <p:nvPr/>
        </p:nvSpPr>
        <p:spPr>
          <a:xfrm>
            <a:off x="713880" y="750600"/>
            <a:ext cx="109656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5: Association of SNPs and major haplotypes in pfmdr1 with responses to different anti-malarials (shown in the y-axis or below the x-axis). *Indicates significant differences (P &lt; 0.05, Mann–Whitney U test) in sensitivity between parasites carrying the two alleles or haplo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图片 6"/>
          <p:cNvGraphicFramePr/>
          <p:nvPr/>
        </p:nvGraphicFramePr>
        <p:xfrm>
          <a:off x="1488600" y="2000160"/>
          <a:ext cx="3696480" cy="2894760"/>
        </p:xfrm>
        <a:graphic>
          <a:graphicData uri="http://schemas.openxmlformats.org/presentationml/2006/ole">
            <p:oleObj progId="Prism6.Document" r:id="rId1" spid="">
              <p:embed/>
              <p:pic>
                <p:nvPicPr>
                  <p:cNvPr id="106" name="图片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600" y="2000160"/>
                    <a:ext cx="3696480" cy="289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图片 8"/>
          <p:cNvGraphicFramePr/>
          <p:nvPr/>
        </p:nvGraphicFramePr>
        <p:xfrm>
          <a:off x="6375240" y="2226960"/>
          <a:ext cx="2261520" cy="2441880"/>
        </p:xfrm>
        <a:graphic>
          <a:graphicData uri="http://schemas.openxmlformats.org/presentationml/2006/ole">
            <p:oleObj progId="Prism6.Document" r:id="rId3" spid="">
              <p:embed/>
              <p:pic>
                <p:nvPicPr>
                  <p:cNvPr id="108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5240" y="2226960"/>
                    <a:ext cx="226152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06"/>
          <p:cNvSpPr/>
          <p:nvPr/>
        </p:nvSpPr>
        <p:spPr>
          <a:xfrm>
            <a:off x="263880" y="402840"/>
            <a:ext cx="118018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6. Association of SNPs and major haplotypes in pfmrp1 with responses to different antimalarials (shown in the y-axis or below the x-axis). *Indicates significant differences (P &lt; 0.05, Mann–Whitney U test) in sensitivity between parasites carrying the two alleles or haplo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图片 3"/>
          <p:cNvGraphicFramePr/>
          <p:nvPr/>
        </p:nvGraphicFramePr>
        <p:xfrm>
          <a:off x="958680" y="1147320"/>
          <a:ext cx="2180160" cy="2233440"/>
        </p:xfrm>
        <a:graphic>
          <a:graphicData uri="http://schemas.openxmlformats.org/presentationml/2006/ole">
            <p:oleObj progId="Prism6.Document" r:id="rId1" spid="">
              <p:embed/>
              <p:pic>
                <p:nvPicPr>
                  <p:cNvPr id="111" name="图片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1147320"/>
                    <a:ext cx="21801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图片 16"/>
          <p:cNvGraphicFramePr/>
          <p:nvPr/>
        </p:nvGraphicFramePr>
        <p:xfrm>
          <a:off x="4184640" y="1208520"/>
          <a:ext cx="2180160" cy="2233440"/>
        </p:xfrm>
        <a:graphic>
          <a:graphicData uri="http://schemas.openxmlformats.org/presentationml/2006/ole">
            <p:oleObj progId="Prism6.Document" r:id="rId3" spid="">
              <p:embed/>
              <p:pic>
                <p:nvPicPr>
                  <p:cNvPr id="113" name="图片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4640" y="1208520"/>
                    <a:ext cx="21801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图片 18"/>
          <p:cNvGraphicFramePr/>
          <p:nvPr/>
        </p:nvGraphicFramePr>
        <p:xfrm>
          <a:off x="7410600" y="1208520"/>
          <a:ext cx="2180160" cy="2233440"/>
        </p:xfrm>
        <a:graphic>
          <a:graphicData uri="http://schemas.openxmlformats.org/presentationml/2006/ole">
            <p:oleObj progId="Prism6.Document" r:id="rId5" spid="">
              <p:embed/>
              <p:pic>
                <p:nvPicPr>
                  <p:cNvPr id="115" name="图片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10600" y="1208520"/>
                    <a:ext cx="21801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图片 20"/>
          <p:cNvGraphicFramePr/>
          <p:nvPr/>
        </p:nvGraphicFramePr>
        <p:xfrm>
          <a:off x="1050120" y="3765600"/>
          <a:ext cx="2180160" cy="2233440"/>
        </p:xfrm>
        <a:graphic>
          <a:graphicData uri="http://schemas.openxmlformats.org/presentationml/2006/ole">
            <p:oleObj progId="Prism6.Document" r:id="rId7" spid="">
              <p:embed/>
              <p:pic>
                <p:nvPicPr>
                  <p:cNvPr id="117" name="图片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50120" y="3765600"/>
                    <a:ext cx="21801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图片 22"/>
          <p:cNvGraphicFramePr/>
          <p:nvPr/>
        </p:nvGraphicFramePr>
        <p:xfrm>
          <a:off x="3879360" y="3767400"/>
          <a:ext cx="2790360" cy="2232360"/>
        </p:xfrm>
        <a:graphic>
          <a:graphicData uri="http://schemas.openxmlformats.org/presentationml/2006/ole">
            <p:oleObj progId="Prism6.Document" r:id="rId9" spid="">
              <p:embed/>
              <p:pic>
                <p:nvPicPr>
                  <p:cNvPr id="119" name="图片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79360" y="3767400"/>
                    <a:ext cx="279036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图片 24"/>
          <p:cNvGraphicFramePr/>
          <p:nvPr/>
        </p:nvGraphicFramePr>
        <p:xfrm>
          <a:off x="7318440" y="3838680"/>
          <a:ext cx="3454200" cy="2479320"/>
        </p:xfrm>
        <a:graphic>
          <a:graphicData uri="http://schemas.openxmlformats.org/presentationml/2006/ole">
            <p:oleObj progId="Prism6.Document" r:id="rId11" spid="">
              <p:embed/>
              <p:pic>
                <p:nvPicPr>
                  <p:cNvPr id="121" name="图片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8440" y="3838680"/>
                    <a:ext cx="3454200" cy="24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12"/>
          <p:cNvSpPr/>
          <p:nvPr/>
        </p:nvSpPr>
        <p:spPr>
          <a:xfrm>
            <a:off x="565920" y="668160"/>
            <a:ext cx="111700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7: Association of SNPs and major haplotypes in minisatellites in pfnhe1 with responses to different antimalarials (shown in they-axis or below the x-axis). *Indicates significant differences (P &lt; 0.05, Mann–Whitney U test) in sensitivity between parasites carrying the two alleles or haplo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图片 2"/>
          <p:cNvGraphicFramePr/>
          <p:nvPr/>
        </p:nvGraphicFramePr>
        <p:xfrm>
          <a:off x="918360" y="1841400"/>
          <a:ext cx="2865960" cy="2895840"/>
        </p:xfrm>
        <a:graphic>
          <a:graphicData uri="http://schemas.openxmlformats.org/presentationml/2006/ole">
            <p:oleObj progId="Prism6.Document" r:id="rId1" spid="">
              <p:embed/>
              <p:pic>
                <p:nvPicPr>
                  <p:cNvPr id="124" name="图片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8360" y="1841400"/>
                    <a:ext cx="28659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图片 4"/>
          <p:cNvGraphicFramePr/>
          <p:nvPr/>
        </p:nvGraphicFramePr>
        <p:xfrm>
          <a:off x="4185720" y="1911960"/>
          <a:ext cx="3821040" cy="2902320"/>
        </p:xfrm>
        <a:graphic>
          <a:graphicData uri="http://schemas.openxmlformats.org/presentationml/2006/ole">
            <p:oleObj progId="Prism6.Document" r:id="rId3" spid="">
              <p:embed/>
              <p:pic>
                <p:nvPicPr>
                  <p:cNvPr id="126" name="图片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5720" y="1911960"/>
                    <a:ext cx="3821040" cy="29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图片 6"/>
          <p:cNvGraphicFramePr/>
          <p:nvPr/>
        </p:nvGraphicFramePr>
        <p:xfrm>
          <a:off x="8408520" y="1760760"/>
          <a:ext cx="2406960" cy="2827800"/>
        </p:xfrm>
        <a:graphic>
          <a:graphicData uri="http://schemas.openxmlformats.org/presentationml/2006/ole">
            <p:oleObj progId="Prism6.Document" r:id="rId5" spid="">
              <p:embed/>
              <p:pic>
                <p:nvPicPr>
                  <p:cNvPr id="128" name="图片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08520" y="1760760"/>
                    <a:ext cx="2406960" cy="28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115"/>
          <p:cNvSpPr/>
          <p:nvPr/>
        </p:nvSpPr>
        <p:spPr>
          <a:xfrm>
            <a:off x="807120" y="494640"/>
            <a:ext cx="11384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8. Association of SNPs and major haplotypes in PfK13 with responses to different antimalarials (shown in they-axis or below the x-axis). *Indicates significant differences (P &lt; 0.05, Mann–Whitney U test) in sensitivity between parasites carrying the two alleles or haplo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图片 2"/>
          <p:cNvGraphicFramePr/>
          <p:nvPr/>
        </p:nvGraphicFramePr>
        <p:xfrm>
          <a:off x="3628440" y="1547640"/>
          <a:ext cx="3767760" cy="3518640"/>
        </p:xfrm>
        <a:graphic>
          <a:graphicData uri="http://schemas.openxmlformats.org/presentationml/2006/ole">
            <p:oleObj progId="Prism6.Document" r:id="rId1" spid="">
              <p:embed/>
              <p:pic>
                <p:nvPicPr>
                  <p:cNvPr id="131" name="图片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8440" y="1547640"/>
                    <a:ext cx="3767760" cy="351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21"/>
          <p:cNvSpPr/>
          <p:nvPr/>
        </p:nvSpPr>
        <p:spPr>
          <a:xfrm>
            <a:off x="513720" y="175320"/>
            <a:ext cx="1138248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S9. Correlation of parasite survival rates (RSA0-3h) and K13 polymorphisms. (A) RSA values between parasites with mutations in the Kelch propeller domain (&gt;440 mutations) and parasites without K13 mutations. Different K13 mutations were color-coded (P &lt; 0.05, Mann–Whitney U test). (B) Comparison of RSA values between parasites with different K13 mutations and the wild-type (WT) (Mann–Whitney U test). *, P &lt; 0.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图片 3075"/>
          <p:cNvGraphicFramePr/>
          <p:nvPr/>
        </p:nvGraphicFramePr>
        <p:xfrm>
          <a:off x="677880" y="2040840"/>
          <a:ext cx="4962240" cy="3063600"/>
        </p:xfrm>
        <a:graphic>
          <a:graphicData uri="http://schemas.openxmlformats.org/presentationml/2006/ole">
            <p:oleObj progId="Prism6.Document" r:id="rId1" spid="">
              <p:embed/>
              <p:pic>
                <p:nvPicPr>
                  <p:cNvPr id="134" name="图片 30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40840"/>
                    <a:ext cx="4962240" cy="3063600"/>
                  </a:xfrm>
                  <a:prstGeom prst="rect">
                    <a:avLst/>
                  </a:prstGeom>
                  <a:ln w="3810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图片 1"/>
          <p:cNvGraphicFramePr/>
          <p:nvPr/>
        </p:nvGraphicFramePr>
        <p:xfrm>
          <a:off x="6120000" y="2041560"/>
          <a:ext cx="5127120" cy="3062880"/>
        </p:xfrm>
        <a:graphic>
          <a:graphicData uri="http://schemas.openxmlformats.org/presentationml/2006/ole">
            <p:oleObj progId="Prism6.Document" r:id="rId3" spid="">
              <p:embed/>
              <p:pic>
                <p:nvPicPr>
                  <p:cNvPr id="136" name="图片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0000" y="2041560"/>
                    <a:ext cx="5127120" cy="3062880"/>
                  </a:xfrm>
                  <a:prstGeom prst="rect">
                    <a:avLst/>
                  </a:prstGeom>
                  <a:ln w="38100">
                    <a:noFill/>
                  </a:ln>
                </p:spPr>
              </p:pic>
            </p:oleObj>
          </a:graphicData>
        </a:graphic>
      </p:graphicFrame>
      <p:sp>
        <p:nvSpPr>
          <p:cNvPr id="137" name="文本框 2"/>
          <p:cNvSpPr/>
          <p:nvPr/>
        </p:nvSpPr>
        <p:spPr>
          <a:xfrm>
            <a:off x="679320" y="1672560"/>
            <a:ext cx="57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"/>
          <p:cNvSpPr/>
          <p:nvPr/>
        </p:nvSpPr>
        <p:spPr>
          <a:xfrm>
            <a:off x="6120000" y="1672560"/>
            <a:ext cx="57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591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04T13:43:00Z</dcterms:created>
  <dc:creator>xi</dc:creator>
  <dc:description/>
  <dc:language>en-US</dc:language>
  <cp:lastModifiedBy>MDPI</cp:lastModifiedBy>
  <dcterms:modified xsi:type="dcterms:W3CDTF">2022-12-17T09:57:0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07213070D8041BA881A3C62699192B6</vt:lpwstr>
  </property>
  <property fmtid="{D5CDD505-2E9C-101B-9397-08002B2CF9AE}" pid="3" name="KSOProductBuildVer">
    <vt:lpwstr>2052-11.1.0.12980</vt:lpwstr>
  </property>
  <property fmtid="{D5CDD505-2E9C-101B-9397-08002B2CF9AE}" pid="4" name="PresentationFormat">
    <vt:lpwstr>Widescreen</vt:lpwstr>
  </property>
  <property fmtid="{D5CDD505-2E9C-101B-9397-08002B2CF9AE}" pid="5" name="Slides">
    <vt:r8>11</vt:r8>
  </property>
</Properties>
</file>